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962-CE1E-422C-9231-CB82D4AA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1AF-CA27-4FC9-AE71-DE4750E0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0C3-31DD-4126-95E7-BA811E9A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ED3-4131-492C-91A8-40834E03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2AB8-65C5-4D9D-A913-5452E4AF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61CD-6498-46E0-867F-8DE1808E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84FD-6F71-4F07-898F-F1F482B7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05C1-7D3E-4BA3-9412-8C287230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570C-307B-493E-87BA-09CFB42C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4661-E641-4BDC-B0C2-5FB1D104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C05F-872A-4E1A-9427-E2927790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AF9-4268-4BA4-8298-39BD88F2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BA84-67CB-4BCC-A73E-90170A89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20F3-DF0C-45D7-B45C-70E7D3B0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5BD5-5C8C-45E5-8393-A6E79692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3E91-DFF1-4723-98B5-B2EFE69F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B4DC-51E6-4254-9531-04EC7FAD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899-9670-4521-84C1-8F6603F6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B3D-247D-4124-9F5F-D647CF04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967-6B46-4616-A90B-D0D77C1C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865-F907-4A72-864F-BA6390BE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ED1-B49F-49E1-9E6C-3BB1C2EF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773-620D-45E0-8D8E-A083B2A7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5AA-9A8F-4645-9FEB-521045DD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5E78-D528-4C41-8C2C-EB00EB2FFC0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3077-3FC2-42BA-968D-F8C079BA175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T2 Working Group</a:t>
            </a:r>
            <a:br>
              <a:rPr sz="3800"/>
            </a:b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Internet based educational resources in EI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tislava, 2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ar., 2007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Team Meeting. T2 ta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ete the SCORM compliant questionnaire for quality assessment (based on Portugal propos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ain phases have been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ing educational resources (e-C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assessment survey after e-CAT is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a good strategy to accomplish both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 adjustments (if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6633"/>
                </a:solidFill>
                <a:latin typeface="Garamond"/>
              </a:rPr>
              <a:t>QUESTIONNAIRE for QUALITY ASSESSMENT of WEB-BASED E-RESOURCES in EIE.</a:t>
            </a:r>
            <a:br>
              <a:rPr sz="2600"/>
            </a:b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Section 2: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Evaluation of the quality of cont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[5- scale evaluation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.1  The objectives of the course are presented clearly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.2  The level of the material is adequate for my current level of education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.3  The material provided in this resource clearly explains information and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ifficult concepts in a simple and easy to understand mann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.4  Visualisation techniques have been used adequately in presenting th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ateria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.5  Materials provided in this resource helped me to learn more widely 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subjec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.6  I found enough examples that helped me to understand the materia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.7  Useful problems helped me to exercise my knowledge in the are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.8  Did the material fulfil your expect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.9  The recommended time to follow the lesson was: [much shorter, shorter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dequate, longer, much longer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6633"/>
                </a:solidFill>
                <a:latin typeface="Garamond"/>
              </a:rPr>
              <a:t>QUESTIONNAIRE for QUALITY ASSESSMENT of WEB-BASED E-RESOURCES in EIE.</a:t>
            </a:r>
            <a:br>
              <a:rPr sz="2600"/>
            </a:b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Section 3: 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Technical evaluation of the resource</a:t>
            </a:r>
            <a:br>
              <a:rPr sz="2100"/>
            </a:b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3.1  My computer has adequate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features to read the resource: [More than enough, Enough, Not enough, Poor, I do not know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3.2  My computer has adequate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features to read the resource: [More than enough, Enough, Not enough, Poor, I do not know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3.3  My computer has adequate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bandwidth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to access the E-resources: [More than enough, Enough, Not enough, Poor, I do not know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3.4  The layout of the material is clear and the links allow easy navigation in the resource: [More than enough, Enough, Not enough, Poor, I do not know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3.5  Did you reach this material directly from the EIE-Surveyor website: [Yes, No, No answer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3.6  If No, please indicate the source of the link of the page. (Google, Yahoo, Altavista,…)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6633"/>
                </a:solidFill>
                <a:latin typeface="Garamond"/>
              </a:rPr>
              <a:t>QUESTIONNAIRE for QUALITY ASSESSMENT of WEB-BASED E-RESOURCES in EIE.</a:t>
            </a:r>
            <a:br>
              <a:rPr sz="2600"/>
            </a:b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Section 4: 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verall satisfaction from your point of vie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4.1  I will recommend this material to my colleagues or students: [Strongly agree, agree, neutral, disagree, none of these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4.2  I think the material is useful for my career/education: [Strongly agree, agree, neutral, disagree, none of these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4.3  I think the material provided me a different approach to the topic: [Strongly agree, agree, neutral, disagree, none of these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4.4 Please rate this material in relation to similar ones: [Best, better than average, average, poor, none of these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4.5  Give reference (link) of other valuable resources in the area (if any): (several links, up to 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2 Timeline</a:t>
            </a:r>
            <a:br>
              <a:rPr sz="4200"/>
            </a:br>
            <a:r>
              <a:rPr b="0" lang="es-ES" sz="2600" spc="-1" strike="noStrike">
                <a:solidFill>
                  <a:srgbClr val="006633"/>
                </a:solidFill>
                <a:latin typeface="Garamond"/>
              </a:rPr>
              <a:t>Updated (“T2-PILOT”) at the end of November 2006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14280" y="1655640"/>
          <a:ext cx="8829720" cy="436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655640"/>
                    <a:ext cx="882972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2 Timeline</a:t>
            </a:r>
            <a:br>
              <a:rPr sz="4200"/>
            </a:br>
            <a:r>
              <a:rPr b="0" lang="es-ES" sz="2600" spc="-1" strike="noStrike">
                <a:solidFill>
                  <a:srgbClr val="006633"/>
                </a:solidFill>
                <a:latin typeface="Garamond"/>
              </a:rPr>
              <a:t>Updated (“Wels”) 09 December 2006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5240" y="1413000"/>
          <a:ext cx="897876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413000"/>
                    <a:ext cx="89787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2 Timeline</a:t>
            </a:r>
            <a:br>
              <a:rPr sz="4200"/>
            </a:br>
            <a:r>
              <a:rPr b="0" lang="es-ES" sz="2600" spc="-1" strike="noStrike">
                <a:solidFill>
                  <a:srgbClr val="006633"/>
                </a:solidFill>
                <a:latin typeface="Garamond"/>
              </a:rPr>
              <a:t>Updated (“Bratislava”) 24 March 2007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5240" y="1409760"/>
          <a:ext cx="897876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409760"/>
                    <a:ext cx="897876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2 Main Actions: a schematic descrip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2565360"/>
            <a:ext cx="3600720" cy="1873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IE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5120" y="2779560"/>
            <a:ext cx="1511280" cy="10083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0360" y="301788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M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498920" y="3214440"/>
            <a:ext cx="576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5280" y="4222800"/>
            <a:ext cx="1511280" cy="1008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414972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7640" y="453060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ratislava meeting minu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tegies for data collection and su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110 partners to each provide 5 or more resources for e-cat (through the EIE contact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Pilot-2 “http://193.140.45.100/pilot2/” that can be used for data entry plus a downloadable word document template will b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ersion 2 of the quality assessment is the final version and is in a usable form. We would need to translate it to different languages; we will ask the EIE-Surveyor particip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ask each EIE contact person to ask a class of students to evaluate the e-resources in the e-CAT (each student for one local and one external site) related to their cour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ol for managing contact persons will be developed (this tool will be useful for EAEEIE, SMEs and the next proposa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2 - Pilot1 &amp; Pilot2 examples for E-CAT data collection and survey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1: Pilot-1 data collection tem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2: Pilot-1 preliminary survey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3: Pilot-2 new trial survey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4: Pilot-2 new trial survey results displ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ilot-2 will have a single page surve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naire in the final ver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13480" y="330372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-1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2-Pilot-1 – Preliminary Evaluation Pag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0560" y="1312920"/>
            <a:ext cx="6337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2-Pilot Web Interface – Add N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927320" y="459900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-2 Survey entry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2-Pilot Web Interface – Add N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002920" y="2795760"/>
            <a:ext cx="31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-2 Survey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6633"/>
                </a:solidFill>
                <a:latin typeface="Garamond"/>
              </a:rPr>
              <a:t>QUESTIONNAIRE for QUALITY ASSESSMENT of WEB-BASED E-RESOURCES in EIE </a:t>
            </a:r>
            <a:r>
              <a:rPr b="1" lang="fr-FR" sz="2000" spc="-1" strike="noStrike">
                <a:solidFill>
                  <a:srgbClr val="006633"/>
                </a:solidFill>
                <a:latin typeface="Garamond"/>
              </a:rPr>
              <a:t>(updated: Bratislava)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Section 1: 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valuation of the type of the users/learn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.1  Please indicate your current level of education:  [Pre-university, undergraduate, master, doctorate/higher, none of these]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.2  Please indicate your level of competence/expertise in the topic area: [beginner, intermediate, advanced, expert, none of these]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.3  Please indicate your level of competence/expertise in the prerequisites of the topic area: [beginner, intermediate, advanced, expert, none of these]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.4  Please indicate weather you are using the material for learning or teaching a related course: [self-learning, organised-learning, teaching, none of these]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1:56:39Z</dcterms:created>
  <dc:creator>JLM</dc:creator>
  <dc:description/>
  <dc:language>en-US</dc:language>
  <cp:lastModifiedBy>JLM</cp:lastModifiedBy>
  <dcterms:modified xsi:type="dcterms:W3CDTF">2007-03-24T11:09:31Z</dcterms:modified>
  <cp:revision>128</cp:revision>
  <dc:subject/>
  <dc:title>T2 </dc:title>
</cp:coreProperties>
</file>