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CAB-F23C-452A-98A9-0B449C25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DBE-FFE8-4190-B530-1B158CD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0C6-BDCF-4D58-AC6C-64C98099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753-1556-40B0-8681-83FDC3E1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9A-57E5-4C24-B6AA-64D290C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FE5-CA11-4A82-A825-4FA94A3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E5B-C366-4D90-BF79-87668596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750-390B-42E0-95F6-87D2683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384-C291-46BC-87FC-E936848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AD2-B432-4C9A-A42F-8EA2507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975-BABE-4CF1-A322-B101743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B04-F54C-4367-95BD-BC227CD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E70-97C1-4F8A-80F4-FF2E4FCC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791320" cy="33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1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, Bratis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ediate 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 &amp; test on-line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arget numbers spread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partner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with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ze the te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&amp; Generic Compe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ize &amp; Collection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updates agreed to improve the correlation analysis options between the respond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Project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 of numbers per Project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instruction set for Project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ection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llection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ntil end of current semester (results for Pra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- end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closes beginning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-based to Tony Ward asa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- full self-co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Helvetica-Obl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Helvetica-Oblique"/>
              </a:rPr>
              <a:t>The report will look at the alignment of educational programmes to industrial needs hence will be useful for policy ma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 containing analysis an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ntributing Institutions (HE &amp;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Professional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Government Policy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/ Journal pape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to the Tuning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questionnaire live - Early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-based questionnaires - Early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&amp; Targets to all partners - Early 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t of questionnaires to Tony 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collected (as early as possible p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of on-line &amp; paper-based  - end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ntry &amp; collation - end Dec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nalysis - end March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&amp; Website - end Jun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8:18:39Z</dcterms:created>
  <dc:creator>Tony Ward</dc:creator>
  <dc:description/>
  <dc:language>en-US</dc:language>
  <cp:lastModifiedBy>Tony Ward</cp:lastModifiedBy>
  <dcterms:modified xsi:type="dcterms:W3CDTF">2007-03-24T09:59:04Z</dcterms:modified>
  <cp:revision>9</cp:revision>
  <dc:subject/>
  <dc:title>Task 1.1</dc:title>
</cp:coreProperties>
</file>