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311-E7F3-4952-8719-5B45BE14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EE9-D9F1-4E56-87B1-915C7FDB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28E-7AA7-4628-8EB2-14B59BC3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942-41AA-4B91-A9F4-075D67B4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7AA-0F93-416D-9E62-F0D77BAB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D97-DD93-4FBC-9C9A-716CD917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749-672A-45B2-A27F-EF715AC1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947-202E-471B-B572-8DC961D5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23F-C21E-4A03-8FEB-D69AA75A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D24-C7B4-4DFF-999C-A5CEB2A8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6C8-6A2A-4B62-85D7-CE0ACDA6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A95-4A63-4E8B-905F-87AE5316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892A-A378-4F5F-AAE0-F54F2E8BF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Prague July 1st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onstitution of the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997360"/>
            <a:ext cx="670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Maciel Barbosa (PT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Cyril Burkley (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Michael Hoffmann (DE) 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Romanas Krivickas (LT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Albert Leone-Ganado (MT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Saba Mylvaganam (NO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George Papadourakis (GR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Daniel Pasquet (FR)</a:t>
            </a:r>
            <a:br>
              <a:rPr sz="2400"/>
            </a:b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Georgios Tsirigot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(G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Prague July 1st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58920" y="2852640"/>
          <a:ext cx="6864480" cy="2448000"/>
        </p:xfrm>
        <a:graphic>
          <a:graphicData uri="http://schemas.openxmlformats.org/drawingml/2006/table">
            <a:tbl>
              <a:tblPr/>
              <a:tblGrid>
                <a:gridCol w="1373040"/>
                <a:gridCol w="1373400"/>
                <a:gridCol w="1371600"/>
                <a:gridCol w="1373040"/>
                <a:gridCol w="1373400"/>
              </a:tblGrid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litie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reports/thesi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Prague July 1st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. Evaluation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2276640"/>
            <a:ext cx="7488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frequency of the visit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2 years: 1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5 years:  5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ther: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size of the visiting pane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:  4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4: 1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5:  2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ore: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How is it composed of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ademics:  10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dustrial:  7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thers: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is the duration of the visit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2 days:  5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 days:  3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nger: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om do the panel meet during their vis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udents  10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ademic staff 10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chnical staff 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ministrative staff  9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mployers  4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raduates  4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Prague July 1st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2852640"/>
            <a:ext cx="806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To whom do the review panel repor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overnment  7    university  4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independent agency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o makes the final decision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overnment  8   university  1 independent agency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2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What are the different possible decision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ll accreditation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ccreditation for reduced period of time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 accreditation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ditional non-compulsory recommendation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Prague July 1st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Different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2781360"/>
            <a:ext cx="6705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Writ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all th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end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D. Pasqu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Receiving the questionnaire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M. Barb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tatistics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G. Papadourak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Prague communication:</a:t>
            </a: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 C. Burk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Prague July 1st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321300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ommunication at Pragu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Statistical results of the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Prague July 1st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Answers to the question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781360"/>
            <a:ext cx="670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Only 10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Z, ES, FR, LT, PL, MT, NO, PT, 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Prague July 1st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209680"/>
            <a:ext cx="80773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accreditatio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compulsory to deliver engineering degrees in EIE?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given by</a:t>
            </a: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governmen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University (ies)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rofessional body (ies)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ndependent agency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Is the accreditation given to</a:t>
            </a: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 programm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 departmen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the whole institution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The accreditation body is constituted b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mployers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ngineers in industr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mbers of accreditation bod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Prague July 1st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209680"/>
            <a:ext cx="807732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accreditation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Is the accreditation body itself subject to an accreditation or validation process?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es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Are there links with other accreditation bodie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uropean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Does the accreditation include quality assurance measur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Prague July 1st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4360" y="2349360"/>
          <a:ext cx="7632720" cy="2806920"/>
        </p:xfrm>
        <a:graphic>
          <a:graphicData uri="http://schemas.openxmlformats.org/drawingml/2006/table">
            <a:tbl>
              <a:tblPr/>
              <a:tblGrid>
                <a:gridCol w="1525320"/>
                <a:gridCol w="1527120"/>
                <a:gridCol w="1527480"/>
                <a:gridCol w="1527120"/>
                <a:gridCol w="15256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ic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 examination script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ation paper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1763640" y="18446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Prague July 1st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2924280"/>
          <a:ext cx="8209080" cy="2073240"/>
        </p:xfrm>
        <a:graphic>
          <a:graphicData uri="http://schemas.openxmlformats.org/drawingml/2006/table">
            <a:tbl>
              <a:tblPr/>
              <a:tblGrid>
                <a:gridCol w="2303640"/>
                <a:gridCol w="1081080"/>
                <a:gridCol w="1339920"/>
                <a:gridCol w="1527120"/>
                <a:gridCol w="19573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s´perform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ademic staff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ruitmen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Surveyor working group meeting</a:t>
            </a:r>
            <a:br>
              <a:rPr sz="3200"/>
            </a:b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Prague July 1st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4360" y="2924280"/>
          <a:ext cx="7632720" cy="2806560"/>
        </p:xfrm>
        <a:graphic>
          <a:graphicData uri="http://schemas.openxmlformats.org/drawingml/2006/table">
            <a:tbl>
              <a:tblPr/>
              <a:tblGrid>
                <a:gridCol w="1525320"/>
                <a:gridCol w="1527120"/>
                <a:gridCol w="1527480"/>
                <a:gridCol w="1527120"/>
                <a:gridCol w="152568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documentation provided in advance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 during the visit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 activities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ment of gradu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boration with industry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124000" y="1844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12:39:06Z</dcterms:created>
  <dc:creator>pasquet</dc:creator>
  <dc:description/>
  <dc:language>en-US</dc:language>
  <cp:lastModifiedBy>pasquet</cp:lastModifiedBy>
  <dcterms:modified xsi:type="dcterms:W3CDTF">2007-06-27T14:41:31Z</dcterms:modified>
  <cp:revision>18</cp:revision>
  <dc:subject/>
  <dc:title>Surveyor working group meeting Craiova June 3rd, 2006</dc:title>
</cp:coreProperties>
</file>