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5AC-C748-4991-A1E5-793356B5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583-57DA-4EB4-BE75-8031A9C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560-B6E9-43A2-917D-52A00B1C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6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77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F6E-C224-4EED-934A-26BE5ED8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F5F-36ED-455F-BB21-FADC5367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B58-DFF4-46F9-8375-D33EEB3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596-9A46-44A9-AF83-F65D5A3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1A1-FF58-4CA2-8CA4-5DDAB49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32C-D972-4AF3-AC7E-8BE82A0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693-E8B4-4605-BBFA-796EEB7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47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734-A9D4-488B-BEEB-4ED0F17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DE6-4627-435F-B8DE-BBAEF19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35F-230D-4D47-BE3C-E6D658A75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791320" cy="33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1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ing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so f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666880"/>
          <a:ext cx="7772400" cy="3048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he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k R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- full self-co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Helvetica-Obl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Helvetica-Oblique"/>
              </a:rPr>
              <a:t>The report will look at the alignment of educational programmes to industrial needs hence will be useful for policy ma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 containing analysis an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questionnaire live - Early Apri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-based questionnaires - Early April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et of questionnaires to Tony War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collected (as early as possible pl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of on-line &amp; paper-based  - end 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entry &amp; collation - end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alysis - end March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&amp; Website - end June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c &amp; Generic Compet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tis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size &amp; Collection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atislava - Immediate 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d &amp; test on-line questionn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arget numbers spreadshe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partner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with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ze the te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Project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sheet of numbers per Project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instruction set for Project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ection Method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ollection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ntil end of current semester (results for Pra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- end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-based to Tony Ward  &gt;150 receiv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so f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s = 22;  Students =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= 52; Germany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ak Republic = 84; UK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e = 141 (94%); Female =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helor = 90; Masters = 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so f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05120"/>
          <a:ext cx="7772400" cy="4647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ade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k R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so f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on the Slovak Republic courses &gt; perceived level of development of the capacity for analysis and synthesis over the reviewed French respon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nch respondents perceived the importance of basic general technical knowledge of their study area profession to be more important than the Slovakian respon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8:18:39Z</dcterms:created>
  <dc:creator>Tony Ward</dc:creator>
  <dc:description/>
  <dc:language>en-US</dc:language>
  <cp:lastModifiedBy>Tony Ward</cp:lastModifiedBy>
  <dcterms:modified xsi:type="dcterms:W3CDTF">2007-07-01T08:44:11Z</dcterms:modified>
  <cp:revision>12</cp:revision>
  <dc:subject/>
  <dc:title>Task 1.1</dc:title>
</cp:coreProperties>
</file>