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E33-41F2-4C68-BCD3-E228BF2F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BA8-3B7C-4443-95BD-A0BDE9CB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EA6-1D72-4B84-B6B4-B79CCD3B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55D-0BD2-4C67-A5A5-A891866C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E3B-2E9E-48D6-A171-6A94C882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6E2-EB1B-4D3E-97D2-2C951A74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C4A-D4F2-4E84-ADB4-CAE17B72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3EB-7F08-420C-8B0D-7DE0484F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EF2-2CC1-4EC0-A206-0FFF695A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18A-3ADB-41A5-AFDA-73C8F1D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AD8-508B-454F-AFE5-3B47105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AED-6E42-47D7-9ABB-5B3FE71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A81-23A3-4292-B2B4-97BD5FF704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araweb.fei.tuke.sk/questionnaires/" TargetMode="External"/><Relationship Id="rId3" Type="http://schemas.openxmlformats.org/officeDocument/2006/relationships/hyperlink" Target="http://laraweb.fei.tuke.sk/questionnaires/" TargetMode="External"/><Relationship Id="rId4" Type="http://schemas.openxmlformats.org/officeDocument/2006/relationships/hyperlink" Target="http://laraweb.fei.tuke.sk/questionnaires/" TargetMode="External"/><Relationship Id="rId5" Type="http://schemas.openxmlformats.org/officeDocument/2006/relationships/hyperlink" Target="http://laraweb.fei.tuke.sk/questionnaires/" TargetMode="External"/><Relationship Id="rId6" Type="http://schemas.openxmlformats.org/officeDocument/2006/relationships/hyperlink" Target="http://laraweb.fei.tuke.sk/questionnaires/" TargetMode="External"/><Relationship Id="rId7" Type="http://schemas.openxmlformats.org/officeDocument/2006/relationships/hyperlink" Target="http://laraweb.fei.tuke.sk/questionnaires/registration.php?link=1L3J4a1c3n4k1o3a" TargetMode="External"/><Relationship Id="rId8" Type="http://schemas.openxmlformats.org/officeDocument/2006/relationships/hyperlink" Target="http://laraweb.fei.tuke.sk/questionnaires/registration.php?link=1L3J4a1c3n4k1o3a" TargetMode="External"/><Relationship Id="rId9" Type="http://schemas.openxmlformats.org/officeDocument/2006/relationships/hyperlink" Target="http://laraweb.fei.tuke.sk/questionnaires/registration.php?link=1L3J4a1c3n4k1o3a" TargetMode="Externa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naire 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E Surve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11 “Tuning” approach in 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Coordinat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tatistics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tatistics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8000" y="4183200"/>
            <a:ext cx="508032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14C-1556-4438-978E-0A1CCD0CAE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13 Methodology of accred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of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of questionna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redit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reditation Coordinator (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naire Coordinator (Q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D91-E4E6-41A5-A1D3-739EE266BF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13 Methodology of accred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editation Coordinat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questionnaire (one user may fill up more that one questionnaire in questionnaire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nd edit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result of selected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7120" y="4129200"/>
            <a:ext cx="507996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912-6959-4B47-845B-E835B09CFF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13 Methodology of accred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Coordinat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tatistics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8000" y="4210200"/>
            <a:ext cx="508032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14D-656D-4D70-808F-0673580A7F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33 Portal on EIE curric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of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of questionna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or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smus  Coordinator (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smus Sub-Coordinator (E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naire Coordinator (Q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52D-E901-41EC-844D-68ED49116F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33 Portal on EIE curric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mus Coordinat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questionnaire (one user may fill up one or more that one questionnaire in questionnaire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nd edit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result of selected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filled questionnaire from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68400" y="4200480"/>
            <a:ext cx="50799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739-C5BD-45C6-BBC8-24D98B6E33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33 Portal on EIE curric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mus Sub-Coordinat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questionnaire (one user may fill up only one questionnaire in questionnaire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result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filled questionnaire from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68400" y="4200480"/>
            <a:ext cx="50799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A27-E508-4A3B-A7C3-B5B11C6B0D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33 Portal on EIE curric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Coordinato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tatistics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esent not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08000" y="4408560"/>
            <a:ext cx="5080320" cy="139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068-D23D-4A4F-95CE-86A0D62B9F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fo of 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1000" y="1411920"/>
            <a:ext cx="74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sk-SK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araweb.fei.tuke.sk</a:t>
            </a:r>
            <a:r>
              <a:rPr b="0" lang="sk-SK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sk-SK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questionnaires</a:t>
            </a:r>
            <a:r>
              <a:rPr b="0" lang="sk-SK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4052880"/>
            <a:ext cx="74170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raweb.fei.tuke.sk/questionnaires/registration.php?link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=1L3J4a1c3n4k1o3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S FOR MEMEBERS OF EIE-Sur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5960" y="33570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9999"/>
                </a:solidFill>
                <a:latin typeface="Arial"/>
              </a:rPr>
              <a:t>http://laraweb.fei.tuke.sk/questionnaires/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el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692-3F0C-43FF-BD09-80254A903F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7561080" cy="36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142-9182-46D7-A479-2987DF47F0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anc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20480" y="171144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e of 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proceed with 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A9E-574A-4B39-8864-4AFEB92C65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5680" y="1557360"/>
            <a:ext cx="756432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451-6223-4051-B008-C1E9658DC9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89240" y="1484280"/>
            <a:ext cx="7430760" cy="38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372-E44B-4BC7-8483-0DD94ADA22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03280" y="1432080"/>
            <a:ext cx="747864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ABB-DA8A-4B70-B669-EB6CF0DB3F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7632720" cy="33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F6D-608C-4E23-AF14-06D3326625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727236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29B-B699-433C-90C2-1A1737AB5F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41600" y="1413000"/>
            <a:ext cx="696276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AEA-FFA1-4DC3-A739-D3504118CF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9360" y="1413000"/>
            <a:ext cx="7515360" cy="43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8CC-3C3B-4054-AD11-BD760C34B4A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2760" y="1536840"/>
            <a:ext cx="5384880" cy="37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779-ED0F-4385-882E-5C1F093F6E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168-9B9B-4B8E-9325-A81CB26EE11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09760" y="2924280"/>
            <a:ext cx="49989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s for your atten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D04-2747-4901-B7F1-C5EAE4F9B43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naires -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1640" y="1413000"/>
            <a:ext cx="7427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1 “Tuning” approach of EIE – A,CS,GS,E,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13 Methodology for accreditation - AC,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3 Portal on EIE curricula – EC,ESC,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US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CS,GS,E,EC,ESC,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group have specific permissions on work with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S,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60C-304B-4137-80A1-A88192CA04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naires -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ections of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T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tency – General, Languages, Specific T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editation T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or Mobility T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T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obility T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CB6-3FFC-4819-A7BC-5EEE41683E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11 “Tuning” approach in 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of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of questionna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Competence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Section – BEST (only for Current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udent (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ed Student (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s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rs 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naire Coordinator (Q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AE7-A345-478C-AB4B-4DA49B0746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11 “Tuning” approach in 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ud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questionnaire (one user may fill up only one questionnaire in questionnaire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Section only for 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8000" y="4076640"/>
            <a:ext cx="508032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2D4-616B-4B52-85F5-DE417E5FB8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11 “Tuning” approach in 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d Stud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questionnaire (one user may fill up only one questionnaire in questionnaire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result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8000" y="4076640"/>
            <a:ext cx="508032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C95-4F9A-4589-B2E0-8742628600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11 “Tuning” approach in 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questionnaire (one user may fill up only one questionnaire in questionnaire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result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Current Student account (with lock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08000" y="4076640"/>
            <a:ext cx="508032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416-56F5-44B0-B4A5-62E86F59C0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11 “Tuning” approach in E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r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questionnaire (one user may fill up only one questionnaire in questionnaire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result of filled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00" y="4091040"/>
            <a:ext cx="5080320" cy="14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E-surveyor, July, 1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0AE-ECE0-4295-BC84-836ACB205B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CA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7:20:54Z</dcterms:created>
  <dc:creator>Dunajec</dc:creator>
  <dc:description/>
  <dc:language>en-US</dc:language>
  <cp:lastModifiedBy>perso</cp:lastModifiedBy>
  <dcterms:modified xsi:type="dcterms:W3CDTF">2007-07-01T12:44:22Z</dcterms:modified>
  <cp:revision>23</cp:revision>
  <dc:subject/>
  <dc:title>Questionnaires</dc:title>
</cp:coreProperties>
</file>