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8EC-BD64-418A-9147-760BF0CE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A1A-7DAC-4167-A603-D40E116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714-B01C-4F73-9B4B-16410B6F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B8F-9A73-4C71-BB56-17634D2A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C38E-1B57-4747-B95C-C2731FDD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8EFE-F6A1-4C37-82E0-B20CF30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C45E-22D3-47F3-9C36-3FCD021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7F2B-439B-43BF-B7D7-0AB15DA8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2A8F-0979-4BA7-B69A-81763E4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610C-DC19-4BD5-A371-8CD1D026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F678-346E-42E0-B6ED-1C4A697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F14-49E4-485B-A1DB-2E8599A0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CBD1-1982-4A95-A100-CC3B8727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C55A-7084-4680-826A-70054C2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E36-96C9-4302-9743-132E583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98F0-3058-4878-986F-15E378A2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2347-2573-48BD-A3B5-F3EF392B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6C4-A759-4F79-ACCA-B504ED2D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F4A-9476-4811-B9C7-1691649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BEF-C1A9-4AEA-BB34-2687263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32C-EBE6-441D-8933-FA84BE2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02B-7D60-4B9D-8CF0-134DDE7F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D3D-B05C-497B-A486-96E50A91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6F0-3462-4D63-80E0-9A33396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F153-EB0C-4030-8FCA-8C39174369C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EA3D-9F1C-481C-886A-5EA5241CE36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ataloguing and Quality Assessment</a:t>
            </a:r>
            <a:br>
              <a:rPr sz="4200"/>
            </a:b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f Some Resources in EIE Available Through the Internet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9760" y="3313080"/>
            <a:ext cx="783576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6633"/>
                </a:solidFill>
                <a:latin typeface="Garamond"/>
              </a:rPr>
              <a:t>Dervis Z. Deniz, Jose L. Marz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urveyor T2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Grenoble, 14-15 March, 200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of poi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o did what during the life time of the projec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itial discussion – SCORM (Santan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200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blem formulation (Web based, 2 separate applications, 2 se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e date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l decision to SC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velopment of Pilot  V1 (March - July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of year 1 Report (November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entation of initial web design (Pilot  V1) Wels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velopment of the Questionnaire V1 (Wels 200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plementation of Questionnaire V1 Format v1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Jan-Mar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entation of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web design (Pilot  V2) Bratislava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o did what during the life time of the projec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plementation of SCORM v2, Questionnaire V2 Format v2 - Pilot v3 (April – Ju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entation of Pilot v3 (Prague, Ju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ision to upgrade the web site, user interfaces and databases (Aug-Sept 2007) Also addition of Contact management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velopment of Pilot v4 (Sept – Dec 2007) incl. Statistics Module, e-Cat, e-Sur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entation of Pilot v4 (Heraklion, Dec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lization of e-Cat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ilot v4 ready for use with different web browsers (Jan 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ilot v4 testing by volunteering partners (Feb 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rting of Pilot v4 to Departmental Server (Mar 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o did what during the life time of the projec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ORM --- (list to be provi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ified SCORM --- DD + JLM + others (list to be provi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stionnaire --- DD + JLM + Dennnis, et al (list to be provi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ILOTS 1-4 and Real Server --- 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act Management --- JL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ribution of points to all who have joined the meetings for task 2 and con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ribution of points to those who have done th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ribution of points to partner coordinators who will put real data into the e-C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 DO – General Meeting, Grenob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tage of th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ain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to be done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Who will do what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til when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Final outcome /results ?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ntent form (CD,Website or report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should be done to finaliz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seminati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2 objectives: a schematic descri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712800" y="1994040"/>
            <a:ext cx="3600360" cy="1873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IE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0640" y="2208240"/>
            <a:ext cx="1511280" cy="1008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16240" y="2446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M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84800" y="2642760"/>
            <a:ext cx="57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60800" y="3651120"/>
            <a:ext cx="1511280" cy="10083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97160" y="3578400"/>
            <a:ext cx="64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43160" y="39592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24280" y="147168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1,2,3 &amp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24720" y="4849920"/>
            <a:ext cx="30459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ing suppor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8520" y="5302080"/>
            <a:ext cx="1193760" cy="703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0280" y="530712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per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2"/>
            <a:endCxn id="99" idx="2"/>
          </p:cNvCxnSpPr>
          <p:nvPr/>
        </p:nvCxnSpPr>
        <p:spPr>
          <a:xfrm flipH="1" rot="16200000">
            <a:off x="3564000" y="4409640"/>
            <a:ext cx="429120" cy="20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99" idx="4"/>
            <a:endCxn id="94" idx="3"/>
          </p:cNvCxnSpPr>
          <p:nvPr/>
        </p:nvCxnSpPr>
        <p:spPr>
          <a:xfrm flipH="1" flipV="1">
            <a:off x="5716080" y="4659120"/>
            <a:ext cx="286560" cy="995760"/>
          </a:xfrm>
          <a:prstGeom prst="bentConnector4">
            <a:avLst>
              <a:gd name="adj1" fmla="val -80000"/>
              <a:gd name="adj2" fmla="val 677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flipH="1">
            <a:off x="6146280" y="5994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 DO – General Meeting, Grenob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Stage of the Ta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velopment of METHODOLOGY for QA of some learning/educational resources available over the Internet in the field of E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above has been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realization of the methodology based on web interfaces and the necessary databases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ing has been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mains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to be done?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(Who will do what? Until when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rting of Pilot v4 to Dept. Server, Mar 2008.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tual use of the methodology with real data. Al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gration of the Contact Management module. DD+J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e of the statistics module to be realized.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nthesis from the data to be collected. DD+JLM+ anyone who wants to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2 Timeline </a:t>
            </a:r>
            <a:br>
              <a:rPr sz="4200"/>
            </a:br>
            <a:r>
              <a:rPr b="0" lang="es-ES" sz="2600" spc="-1" strike="noStrike">
                <a:solidFill>
                  <a:srgbClr val="006633"/>
                </a:solidFill>
                <a:latin typeface="Garamond"/>
              </a:rPr>
              <a:t>Updated (“Grenoble”) 14-15 Mar., 2008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9520" y="1606680"/>
          <a:ext cx="8173800" cy="44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06680"/>
                    <a:ext cx="81738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056360" y="2187720"/>
            <a:ext cx="22320" cy="61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1360" y="20858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 DO – General Meeting, Grenob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mains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 to be done?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(Who will do what? Until when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rting of Pilot v4 to Dept. Server, Mar 2008. 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ctual use of the methodology with real data. All Part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tegration of the Contact Management module. DD+JL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se of the statistics module to be realized. 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hesis from the data to be collected. DD+JLM+ anyone who wants to jo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rategies for data collection and surve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collection for e-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110 Surveyor partners to provi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 inter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5 extra-Institutional, resources for the e-cat (through the EIE contact per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-line 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IE contact person will be requested to direct a group of students (e.g. a class of 20-25) to evaluate e-resources in the e-Cat (each student to evalua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loc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 exter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t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ed to their cour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 DO – General Meeting, Grenob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Final outcome /results ?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port, Paper(s), on Methodology for Q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AEEIE 07 published, Abstract for SEFI 08 accepted and EAEEIE 08 ? Overdue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-Cat and E-Surv website that can be used beyond the lifetime of th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ool for managing contact persons e-mailing has been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tools will be useful for EAEEIE, SMEs and the next proposal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lus Poi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finalize outcome: a method for using the statistics collected for QA star-rating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k users to help with the ways to utilize statis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 authorised users to download the e-Surv database for research into Q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 DO – General Meeting, Grenob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semination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 flyer section to introduce the Methodology and the web site add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se of the web site to determine interested parties who have not registered to be encouraged to register and either ADD e-cat info or to do surv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se of the tool by interested parties perhaps under the responsibility of EAEEIE Associ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pening up the tool to the rest of the wor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1:56:39Z</dcterms:created>
  <dc:creator>JLM</dc:creator>
  <dc:description/>
  <dc:language>en-US</dc:language>
  <cp:lastModifiedBy>ADMIN</cp:lastModifiedBy>
  <dcterms:modified xsi:type="dcterms:W3CDTF">2008-03-18T07:12:22Z</dcterms:modified>
  <cp:revision>253</cp:revision>
  <dc:subject/>
  <dc:title>T2 </dc:title>
</cp:coreProperties>
</file>