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F45-873B-4D19-BEC3-73A82891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665-ECC1-45B5-AA43-2FEE9E10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6A0-2703-4CE7-B49B-1916216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D58-F713-4C3C-B7B7-E84DDDD0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B72-7984-4FAB-9418-078460F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F1B-47ED-4097-8ADE-4886B4F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AB2-7D12-48F2-8D9D-7BA0FAAE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1D7-A709-410B-BC22-25A5A2FF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515-DC12-4019-99EA-140F1B3D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6AF-0090-435B-9C95-7302988D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7CB-ED97-40AB-AA43-6FA6FB2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8C2-8894-46D4-9CAB-2767388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5B05-62FA-489F-BA17-741DA0151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380880"/>
            <a:ext cx="1654200" cy="95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96080" y="5715000"/>
            <a:ext cx="1295640" cy="102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ask 1.1 - Tun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f, Nina, Io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ir help during thi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inal Outcom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on the analysis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website for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on any CD Rom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comparison with other Tuning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remains to be don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se up more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f to chase acade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 to chase for student, employer and gradu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paper and electronic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te and me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final report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page for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emaining Task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se up more returns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email sent early next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f to chase acade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 to chase for student, employer and gradu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deadline for completed questionnaires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end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paper and electronic returns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end 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te and merge data sets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mid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data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end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final report (pdf)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end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page for website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end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publications </a:t>
            </a: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- 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semination Objectiv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ng - matching supply to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-Europ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untry compa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Country compa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ion of important compe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importance to education policy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ion gaps between surveyed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importance to University curriculu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 Widening participation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semination Ac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ster of Education (Eur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 QAA &amp; Education Authorities (through Country partners) - e.g. UK HEFC, UK HEA Learning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Engineering 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, Tuning Project Team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, European &amp; National Education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EEIE, ITHET, SE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ask 1.1 Proces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completed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ntry (non on-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idation of data-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al and more detailed 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results and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ask 1.1 - Current Statu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nair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nalysis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current outcomes (needs to be col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Questionnaire Retur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 1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pru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ech Republic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mark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nia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l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3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 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 2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lan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land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via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chtenstei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uani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xembourg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Questionnaire Retur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ta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herland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way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nd 2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vak Republic 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venia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d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Questionnaire Retur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17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2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 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r 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short of target at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itial Analysis Though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tudent cf academic cf employer cf 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to average Impor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to average Level of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to average difference (Importance - Level of Dev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between g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stitution, Country,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ummary of Current Outcom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f - 1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Russe, student competence conference procee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EEIE 2008 - 1 off (not yet submitted - ooop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I 2008, abstract accepted, paper now 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ints Attribution for Contributo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Questionnaire - 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and Correct the Questionnaire - Tony, Josef, Helene, Jan,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on-line questionnaire - 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 to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 of meeting and engagement of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number of questionnaires sub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 of number of responses of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8:24:51Z</dcterms:created>
  <dc:creator>Tony Ward</dc:creator>
  <dc:description/>
  <dc:language>en-US</dc:language>
  <cp:lastModifiedBy>Tony Ward</cp:lastModifiedBy>
  <dcterms:modified xsi:type="dcterms:W3CDTF">2008-03-16T09:23:14Z</dcterms:modified>
  <cp:revision>21</cp:revision>
  <dc:subject/>
  <dc:title>Task 1.1</dc:title>
</cp:coreProperties>
</file>