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18C1-E794-47B9-BE63-AC614B8DA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31440" y="393084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3C64-0CA9-4D5D-A390-288ADD59F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998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B9F8-824E-4281-B493-682A4B75C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4608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66072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3144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4608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66072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9960-9E43-4C3B-B950-8A362AA74C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6A82-6A3B-4A95-AC3B-D6730D3E9D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FB1B-D087-4A2E-BF13-933F83094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80AA4-DAAA-4724-830E-E4D70DB25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7DF4-6CFE-4861-8547-351D1CBF8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11240" y="274680"/>
            <a:ext cx="7493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87B5-6426-4942-90A2-46CBD4A4A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FCF0-2CA2-4DAE-8CAE-61DD566A9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98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5E8F-B075-417E-B32A-9B5F52A2F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4B61-BC71-40E7-A8AF-5EC7C44B8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6524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19320"/>
            <a:ext cx="165240" cy="5638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46680" y="6553080"/>
            <a:ext cx="226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enoble: 14-03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616880" y="6356520"/>
            <a:ext cx="122400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3B76-04FA-4EFF-B545-6B272F105F96}" type="slidenum">
              <a:rPr b="1" lang="fr-F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404280" y="6432120"/>
            <a:ext cx="5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827A-B062-4D0E-9E65-C1E226E016F1}" type="slidenum">
              <a:rPr b="1" lang="fr-FR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254160" y="274680"/>
          <a:ext cx="1657080" cy="9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274680"/>
                    <a:ext cx="1657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9067680" y="6300720"/>
          <a:ext cx="838440" cy="55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067680" y="6300720"/>
                    <a:ext cx="8384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" name=""/>
          <p:cNvGraphicFramePr/>
          <p:nvPr/>
        </p:nvGraphicFramePr>
        <p:xfrm>
          <a:off x="8148600" y="6318360"/>
          <a:ext cx="681120" cy="539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148600" y="6318360"/>
                    <a:ext cx="6811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" name=""/>
          <p:cNvGraphicFramePr/>
          <p:nvPr/>
        </p:nvGraphicFramePr>
        <p:xfrm>
          <a:off x="2505240" y="2060640"/>
          <a:ext cx="4437000" cy="4000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5240" y="2060640"/>
                    <a:ext cx="4437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" name=""/>
          <p:cNvSpPr/>
          <p:nvPr/>
        </p:nvSpPr>
        <p:spPr>
          <a:xfrm>
            <a:off x="415800" y="1413000"/>
            <a:ext cx="9396360" cy="46195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body"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95200" y="274680"/>
            <a:ext cx="72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tion T3.3 of Surveyor: Portal on EIE curri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680" y="1389240"/>
            <a:ext cx="6711840" cy="17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Survey on the state of the art on mobility in EI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mit our proposition to facilitate mobility 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867800" y="199404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Questionn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7640" y="3560760"/>
            <a:ext cx="69148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an experiment on our Propositions to facili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bility in the framework of ERASMUS PROGRAM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5760" y="2341440"/>
            <a:ext cx="51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29600" y="3781440"/>
            <a:ext cx="51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62000" y="3575160"/>
            <a:ext cx="16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Portal on E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urri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9040" y="3382920"/>
            <a:ext cx="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54920" y="1879560"/>
            <a:ext cx="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9440" y="1714320"/>
            <a:ext cx="87915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95200" y="274680"/>
            <a:ext cx="72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tion T3.3 of Surveyor: Portal on EIE curri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3480" y="2092320"/>
            <a:ext cx="956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pping the state of the art on Master degree in the spirit of Bologna pro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d International m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7600" y="3295800"/>
            <a:ext cx="901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make a survey on the organization of mobility at  university level in E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656240"/>
            <a:ext cx="90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gather information about mobility but from the student point of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360" y="1608120"/>
            <a:ext cx="292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57644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Target group 1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: Questionnaire for EIE surveyor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6920" y="2830680"/>
            <a:ext cx="84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Target group 2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: Questionnaire for the mobility contact at university level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1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887640"/>
            <a:ext cx="734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Target group 3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: Questionnaire for the mobility at student 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1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3280" y="814320"/>
            <a:ext cx="41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Questionna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50960" y="0"/>
            <a:ext cx="71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periment on the Portal on EIE curri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0480" y="2765160"/>
            <a:ext cx="269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dex of compatibi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uted on the bas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f the descriptio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ach cour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975040" y="647640"/>
            <a:ext cx="693108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36520" y="1787400"/>
            <a:ext cx="96696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Report on:  good practice on mobility and existing International master (questionnai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une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ort on the Master Mobility Portal experiment : test on 1 specialty and 3 instit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ptember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" y="122724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5680" y="4189320"/>
            <a:ext cx="23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010120"/>
            <a:ext cx="925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IE-surveyor Website Publications SEFI and EAEE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Send a flyer of the result to all International Department of ou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Mobility Portal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3:46:50Z</dcterms:created>
  <dc:creator>INPG</dc:creator>
  <dc:description/>
  <dc:language>en-US</dc:language>
  <cp:lastModifiedBy>yh</cp:lastModifiedBy>
  <cp:lastPrinted>2001-02-27T14:19:08Z</cp:lastPrinted>
  <dcterms:modified xsi:type="dcterms:W3CDTF">2008-03-15T08:43:36Z</dcterms:modified>
  <cp:revision>558</cp:revision>
  <dc:subject/>
  <dc:title>Aucun titre de diapositive</dc:title>
</cp:coreProperties>
</file>