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3AF-A631-4FC2-9957-188D185B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3CC-A7CB-40EC-8592-18090680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FEF-4996-44C0-9C4A-0628B8D2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285-91B5-4C99-9994-DE89A0D8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25B-962B-4DE2-BF90-BE1CF244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8C2-6392-4885-83B7-F1B3086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3E0-53C1-417A-A380-DB6AD2A8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B23-1248-4C85-9B37-C176B07A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4B6-2684-41E5-AEF4-5F9D108F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BFB-6187-4A10-9BE5-5F2D16D0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38B-80FF-4B18-BE7C-D58EED2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375-DEAD-44B0-8E32-A005C3A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B17-ACFD-4F95-8567-62F1265B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ie-surveyor.org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Joseph.Barsics@prov-liege.b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Joseph.Barsics@prov-liege.be" TargetMode="External"/><Relationship Id="rId2" Type="http://schemas.openxmlformats.org/officeDocument/2006/relationships/hyperlink" Target="http://www.eie-surveyor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EIE-Surveyor- Grenoble</a:t>
            </a:r>
            <a:br>
              <a:rPr sz="4000"/>
            </a:b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fr-BE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 &amp; 15</a:t>
            </a:r>
            <a:r>
              <a:rPr b="0" lang="fr-BE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 March 200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2205000"/>
            <a:ext cx="741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isseminatio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a. 15</a:t>
            </a:r>
            <a:r>
              <a:rPr b="0" lang="fr-BE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– Plenary Session – J. Bars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Black &amp; </a:t>
            </a:r>
            <a:r>
              <a:rPr b="0" lang="fr-BE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: Original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3399"/>
                </a:solidFill>
                <a:latin typeface="Arial"/>
              </a:rPr>
              <a:t>Magenta</a:t>
            </a:r>
            <a:r>
              <a:rPr b="0" lang="fr-BE" sz="3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ff3399"/>
                </a:solidFill>
                <a:latin typeface="Arial"/>
              </a:rPr>
              <a:t>: Decisions in Greno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cc33"/>
                </a:solidFill>
                <a:latin typeface="Arial"/>
              </a:rPr>
              <a:t>Green</a:t>
            </a:r>
            <a:r>
              <a:rPr b="0" lang="fr-BE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33cc33"/>
                </a:solidFill>
                <a:latin typeface="Arial"/>
              </a:rPr>
              <a:t>: Post thin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General 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hat every task manager presented in Grenoble about dissemination is to be analysed later, asap when getting the minutes of this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hat they propose copes with the search of stakeholers we have to convince of using our outcomes (see Heraklion doc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pecific Dissemination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d in Herakl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every country : who are the stakeholders to contac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isting to be fulfilled will be sent next week : 1/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al EIE-S coordinator decides who is in specific charge of disse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essional associ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ss associ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stakehol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s associ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pecific Disseminatio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igured out in Working Group on Fr. 14</a:t>
            </a:r>
            <a:r>
              <a:rPr b="0" lang="fr-BE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or every task and outcom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vailability from www.??? (one and only one would be bet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Registering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before consulting/downlaoding would be compulsory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Logins are recorded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unting for dissemination testif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News emailing becomes possible towards registered users </a:t>
            </a:r>
            <a:r>
              <a:rPr b="1" lang="fr-BE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 The TN stays aliv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pecific Disseminatio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gistration not accepted by a visitor : he may only get general description and summarise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gistration accepted by a visitor : he may gets the whol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? Registration is free of charge for students and academic staf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? Registration is not free of charge for Entrepris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pecific Disseminatio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99"/>
                </a:solidFill>
                <a:latin typeface="Arial"/>
              </a:rPr>
              <a:t>« THE » web site is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ie-surveyor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99"/>
                </a:solidFill>
                <a:latin typeface="Arial"/>
              </a:rPr>
              <a:t>Links to current and still under development web sites shall be settled. This is not unmanageable for people wishing to register and con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99"/>
                </a:solidFill>
                <a:latin typeface="Arial"/>
              </a:rPr>
              <a:t>This is a provisional situation. Particular web sites are to be later copied or mirrored on the only one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99"/>
                </a:solidFill>
                <a:latin typeface="Arial"/>
              </a:rPr>
              <a:t>Information required from/to registering peop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is to be standardise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provided email addresses should be automatically checked while people are still in the registering pro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They should get the same privacy and confidentiality statements whatever be the consulted web s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3399"/>
                </a:solidFill>
                <a:uFillTx/>
                <a:latin typeface="Arial"/>
              </a:rPr>
              <a:t>ALL OF THIS IS to be decided together by current individual web site managers in raccordance with Jean-Marc Thiri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99"/>
                </a:solidFill>
                <a:latin typeface="Arial"/>
              </a:rPr>
              <a:t>Access will be indeed free for students and academ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99"/>
                </a:solidFill>
                <a:latin typeface="Arial"/>
              </a:rPr>
              <a:t>For enterprises, access will be indeed fee charged and/or (at least) </a:t>
            </a:r>
            <a:r>
              <a:rPr b="1" lang="en-GB" sz="1600" spc="-1" strike="noStrike">
                <a:solidFill>
                  <a:srgbClr val="ff3399"/>
                </a:solidFill>
                <a:latin typeface="Arial"/>
              </a:rPr>
              <a:t>they have to fulfil the questionna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3399"/>
                </a:solidFill>
                <a:uFillTx/>
                <a:latin typeface="Arial"/>
              </a:rPr>
              <a:t>On which web site do they get the information for fee payement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3399"/>
                </a:solidFill>
                <a:uFillTx/>
                <a:latin typeface="Arial"/>
              </a:rPr>
              <a:t>How may they next access to every web site whenever </a:t>
            </a: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they</a:t>
            </a:r>
            <a:r>
              <a:rPr b="0" lang="en-GB" sz="1400" spc="-1" strike="noStrike" u="sng">
                <a:solidFill>
                  <a:srgbClr val="ff3399"/>
                </a:solidFill>
                <a:uFillTx/>
                <a:latin typeface="Arial"/>
              </a:rPr>
              <a:t> wish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3399"/>
                </a:solidFill>
                <a:uFillTx/>
                <a:latin typeface="Arial"/>
              </a:rPr>
              <a:t>Period of access after payment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33cc33"/>
                </a:solidFill>
                <a:uFillTx/>
                <a:latin typeface="Arial"/>
              </a:rPr>
              <a:t>To be discussed with </a:t>
            </a:r>
            <a:r>
              <a:rPr b="1" lang="en-GB" sz="1400" spc="-1" strike="noStrike" u="sng">
                <a:solidFill>
                  <a:srgbClr val="33cc33"/>
                </a:solidFill>
                <a:uFillTx/>
                <a:latin typeface="Arial"/>
              </a:rPr>
              <a:t>Denis Genon-Catalot</a:t>
            </a:r>
            <a:r>
              <a:rPr b="0" lang="en-GB" sz="1400" spc="-1" strike="noStrike" u="sng">
                <a:solidFill>
                  <a:srgbClr val="33cc33"/>
                </a:solidFill>
                <a:uFillTx/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pecific Dissemination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nother way, merely a highway… to let people know about EIE-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very Int’l Relations Office through NGAA (National ERASMUS Agen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~ 3000 of them only in Europe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erely administrative people wishing some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arther than in Europe : through which path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cc33"/>
                </a:solidFill>
                <a:latin typeface="Arial"/>
              </a:rPr>
              <a:t>Specific Dissemination – 3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cc33"/>
                </a:solidFill>
                <a:latin typeface="Arial"/>
              </a:rPr>
              <a:t>Same dissemination through LEONARDO projects. Pathes to search fo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cc33"/>
                </a:solidFill>
                <a:latin typeface="Arial"/>
              </a:rPr>
              <a:t>New LLP National Agencies (since 07-08) which are now englobing ERASMUS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cc33"/>
                </a:solidFill>
                <a:latin typeface="Arial"/>
              </a:rPr>
              <a:t>EU Leonardo centralized web site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cc33"/>
                </a:solidFill>
                <a:latin typeface="Arial"/>
              </a:rPr>
              <a:t>ESF</a:t>
            </a:r>
            <a:r>
              <a:rPr b="0" lang="fr-BE" sz="2800" spc="-1" strike="noStrike" baseline="-25000">
                <a:solidFill>
                  <a:srgbClr val="33cc33"/>
                </a:solidFill>
                <a:latin typeface="Arial"/>
              </a:rPr>
              <a:t>EN</a:t>
            </a:r>
            <a:r>
              <a:rPr b="0" lang="fr-BE" sz="2800" spc="-1" strike="noStrike">
                <a:solidFill>
                  <a:srgbClr val="33cc33"/>
                </a:solidFill>
                <a:latin typeface="Arial"/>
              </a:rPr>
              <a:t> (European Social Fund) – FSE</a:t>
            </a:r>
            <a:r>
              <a:rPr b="0" lang="fr-BE" sz="2800" spc="-1" strike="noStrike" baseline="-25000">
                <a:solidFill>
                  <a:srgbClr val="33cc33"/>
                </a:solidFill>
                <a:latin typeface="Arial"/>
              </a:rPr>
              <a:t>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cc33"/>
                </a:solidFill>
                <a:latin typeface="Arial"/>
              </a:rPr>
              <a:t>INTERRE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cc33"/>
                </a:solidFill>
                <a:latin typeface="Arial"/>
              </a:rPr>
              <a:t>Any other suggestion ? Please join </a:t>
            </a:r>
            <a:r>
              <a:rPr b="0" lang="fr-B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seph.Barsics@prov-liege.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cc33"/>
                </a:solidFill>
                <a:latin typeface="Arial"/>
              </a:rPr>
              <a:t>Person in charge : Joseph Bars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pecific Dissemination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isbon, 7th-11th May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RACON’2008 Con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f SOCRATES Coordin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’ll be there (at my institution expenses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With Maria Joaõ MART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~120 HEIs   ~ 200 participants (previous years #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esentation of expected outcomes of EIE-Surveyor in plenary s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aflet distribution /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1 pag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by task or sub-task : please,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send it to m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seph.Barsics@prov-liege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Web access proposed at </a:t>
            </a:r>
            <a:r>
              <a:rPr b="0" lang="fr-B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ie-surveyor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hrough registration…and </a:t>
            </a:r>
            <a:r>
              <a:rPr b="0" lang="fr-BE" sz="2400" spc="-1" strike="noStrike">
                <a:solidFill>
                  <a:srgbClr val="ff3399"/>
                </a:solidFill>
                <a:latin typeface="Arial"/>
              </a:rPr>
              <a:t>questionnaires fullfi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0:58:22Z</dcterms:created>
  <dc:creator>JB</dc:creator>
  <dc:description/>
  <dc:language>en-US</dc:language>
  <cp:lastModifiedBy>JB</cp:lastModifiedBy>
  <dcterms:modified xsi:type="dcterms:W3CDTF">2008-03-17T11:23:48Z</dcterms:modified>
  <cp:revision>7</cp:revision>
  <dc:subject/>
  <dc:title>Grenoble - Dissemination</dc:title>
</cp:coreProperties>
</file>