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12B3E1-0BD8-4C88-93AE-2353851877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8D63-F496-41ED-A4BA-6170F7BCB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D7C0-8406-4AB6-AA42-BB8577D19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24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7615-D288-482F-AA30-AA42705C0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820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956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0BFF-E16B-482E-BB9B-F5F91A52F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EEA6-D599-43C0-A8C1-ED7D5EB37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DA93-0C39-48F0-8362-D34252C1A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D52F-C36E-481B-9259-B6AD1AB9F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EE5B-68CF-4EC1-8852-832E06D48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49E6-439C-4B70-9D2D-68943DF0C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210D-74B9-4F9B-8C66-FBBDF263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24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CE39-0340-4044-8855-1481F1D4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B27A-1753-42AF-88A7-B36BF7F4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renoble, Fra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4-15 March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ask 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D4C5CB-B20F-4393-BF1D-86C37A98CDE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740720" y="0"/>
          <a:ext cx="1403280" cy="1112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40720" y="0"/>
                    <a:ext cx="1403280" cy="111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" name=""/>
          <p:cNvGraphicFramePr/>
          <p:nvPr/>
        </p:nvGraphicFramePr>
        <p:xfrm>
          <a:off x="0" y="274680"/>
          <a:ext cx="2050920" cy="117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274680"/>
                    <a:ext cx="2050920" cy="11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sk 3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40328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of Monograph B&amp;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of Doctoral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nd of March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both Monograph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EAD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ew part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Karl Solvi Guðmundsson - Univ. of Ice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niv; of Goteborg, Sw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niv. Of Ljubljana, Slove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ug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utsourcing the formatting and publishing process ( Karl Gudmundss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ake away the 1st part and replace it with articles from partners concerning the BMD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nsert the data analysis ( M. Joao &amp; Pep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nsert the overview (Olivier &amp; Micha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issem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29400" indent="-3294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5 Copies per partner (1 for partner, 1 for Department, 1 for international office, 1 for National Socrates Agency, 1 for professional Engineering Associ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py on the website (download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pies to B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py to IEEE educational por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py to SE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 mail to partners to disseminate the information on their websites to students and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apers on IEEE education and EJ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formation to other TNs and ASEE, and IEEE Gold, SPIE, URSI, O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40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sk 3.1 (200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4360" y="1050840"/>
            <a:ext cx="8135640" cy="50529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992760" y="4579920"/>
            <a:ext cx="79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livi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cha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2421000"/>
            <a:ext cx="11012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icto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BD (SEF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812000" y="1700280"/>
            <a:ext cx="289080" cy="3097080"/>
          </a:xfrm>
          <a:custGeom>
            <a:avLst/>
            <a:gdLst>
              <a:gd name="textAreaLeft" fmla="*/ 0 w 289080"/>
              <a:gd name="textAreaRight" fmla="*/ 104400 w 289080"/>
              <a:gd name="textAreaTop" fmla="*/ 80640 h 3097080"/>
              <a:gd name="textAreaBottom" fmla="*/ 3016440 h 309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298000" y="2800440"/>
            <a:ext cx="70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08000" y="2276640"/>
            <a:ext cx="719280" cy="243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t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08000" y="4581360"/>
            <a:ext cx="719280" cy="243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t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68280" y="3068640"/>
            <a:ext cx="2806560" cy="580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Pepe and TG3 coordinato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20040" y="4618080"/>
            <a:ext cx="255960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Maria Joao and TG3 coordinato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77400" y="2924280"/>
            <a:ext cx="1458000" cy="580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ssem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Ger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sk 3.1 – New Develop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new introdu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&amp;M: SEFI, Victor de Kosins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: OIivier, Micha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 summary of the situation of B&amp;M and PhDs  - Pepe and M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semination over the web (Gert), preparation of the versions for the commission (CD, book) – all task coordin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national contact points for each cou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about study programmes and courses offered in English (specific universi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ence of double diplo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-stamping of the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sk 3.1 (200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130960" cy="50547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455840" y="4816440"/>
            <a:ext cx="68612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ing in the WEB (continuous edit possibil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56160" y="1468440"/>
            <a:ext cx="1440" cy="4465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076720" y="1484280"/>
            <a:ext cx="828720" cy="60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62720" y="122544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eadline for fixing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o be prepared for the 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5851440"/>
            <a:ext cx="77796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48360" y="1557360"/>
            <a:ext cx="144360" cy="453564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e of Mono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17720" y="1143000"/>
            <a:ext cx="403848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 algn="ctr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ceived fi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2400480" y="1752480"/>
            <a:ext cx="4039920" cy="3854520"/>
            <a:chOff x="2400480" y="1752480"/>
            <a:chExt cx="4039920" cy="3854520"/>
          </a:xfrm>
        </p:grpSpPr>
        <p:sp>
          <p:nvSpPr>
            <p:cNvPr id="80" name=""/>
            <p:cNvSpPr/>
            <p:nvPr/>
          </p:nvSpPr>
          <p:spPr>
            <a:xfrm>
              <a:off x="5092560" y="4960800"/>
              <a:ext cx="13464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746520" y="4960800"/>
              <a:ext cx="134604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400480" y="4960800"/>
              <a:ext cx="134604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ulga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092560" y="4313160"/>
              <a:ext cx="13464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746520" y="4313160"/>
              <a:ext cx="13460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ithuan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400480" y="4313160"/>
              <a:ext cx="13460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Gree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092560" y="3666960"/>
              <a:ext cx="134640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746520" y="3666960"/>
              <a:ext cx="134604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rela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400480" y="3666960"/>
              <a:ext cx="134604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Norw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092560" y="3019320"/>
              <a:ext cx="13464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746520" y="3019320"/>
              <a:ext cx="13460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lovak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00480" y="3019320"/>
              <a:ext cx="13460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kra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092560" y="2374920"/>
              <a:ext cx="134640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746520" y="2374920"/>
              <a:ext cx="134604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ola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400480" y="2374920"/>
              <a:ext cx="134604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urke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092560" y="1752480"/>
              <a:ext cx="1346400" cy="62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746520" y="1752480"/>
              <a:ext cx="1346040" cy="62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ortug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400480" y="1752480"/>
              <a:ext cx="1346040" cy="62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uman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400480" y="1752480"/>
              <a:ext cx="40384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400480" y="2374920"/>
              <a:ext cx="4038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400480" y="3019320"/>
              <a:ext cx="4038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400480" y="3666960"/>
              <a:ext cx="4038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400480" y="4313160"/>
              <a:ext cx="4038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400480" y="4960800"/>
              <a:ext cx="4038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400480" y="5605560"/>
              <a:ext cx="40384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400480" y="1752480"/>
              <a:ext cx="1440" cy="385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46520" y="1752480"/>
              <a:ext cx="1440" cy="385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092560" y="1752480"/>
              <a:ext cx="1800" cy="385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438960" y="1752480"/>
              <a:ext cx="1440" cy="385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nograph- Missing Inf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lgium- Flanders &amp; Walo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zech Repub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yp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ng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xembou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l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ove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.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of Doctoral Studies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ceived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679840" y="1549440"/>
            <a:ext cx="4039920" cy="4527360"/>
            <a:chOff x="2679840" y="1549440"/>
            <a:chExt cx="4039920" cy="4527360"/>
          </a:xfrm>
        </p:grpSpPr>
        <p:sp>
          <p:nvSpPr>
            <p:cNvPr id="113" name=""/>
            <p:cNvSpPr/>
            <p:nvPr/>
          </p:nvSpPr>
          <p:spPr>
            <a:xfrm>
              <a:off x="5372280" y="5319720"/>
              <a:ext cx="13460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ithuan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025880" y="5319720"/>
              <a:ext cx="134640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ortug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679840" y="5319720"/>
              <a:ext cx="13460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tal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72280" y="4567320"/>
              <a:ext cx="1346040" cy="75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zech Re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025880" y="4567320"/>
              <a:ext cx="1346400" cy="75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l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679840" y="4567320"/>
              <a:ext cx="1346040" cy="75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rela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372280" y="3813120"/>
              <a:ext cx="134604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urke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025880" y="3813120"/>
              <a:ext cx="134640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atv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679840" y="3813120"/>
              <a:ext cx="134604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Hunga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372280" y="3057480"/>
              <a:ext cx="13460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lovak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025880" y="3057480"/>
              <a:ext cx="134640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Gree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679840" y="3057480"/>
              <a:ext cx="13460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elgi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372280" y="2305080"/>
              <a:ext cx="1346040" cy="75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oman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25880" y="2305080"/>
              <a:ext cx="1346400" cy="75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German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79840" y="2305080"/>
              <a:ext cx="1346040" cy="75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ulga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372280" y="1549440"/>
              <a:ext cx="13460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kra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025880" y="1549440"/>
              <a:ext cx="134640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Norw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679840" y="1549440"/>
              <a:ext cx="13460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ston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679840" y="1549440"/>
              <a:ext cx="40384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79840" y="2305080"/>
              <a:ext cx="4038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679840" y="3057480"/>
              <a:ext cx="4038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79840" y="3813120"/>
              <a:ext cx="4038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79840" y="4567320"/>
              <a:ext cx="4038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679840" y="5319720"/>
              <a:ext cx="4038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79840" y="6075360"/>
              <a:ext cx="40384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679840" y="1549440"/>
              <a:ext cx="1440" cy="452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25880" y="154944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72280" y="154944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18320" y="1549440"/>
              <a:ext cx="1440" cy="452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ctoral studies - Missing Inf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gium- Walo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xembou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ove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.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o do still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new introd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&amp;M: SEFI, Victor de Kosins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: OIivier, Micha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summary of the situation of B&amp;M and PhDs  - Pepe and M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semination over the web (Gert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about study programmes and courses offered in English (specific universit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ence of double diplo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rso</cp:lastModifiedBy>
  <dcterms:modified xsi:type="dcterms:W3CDTF">2008-05-21T19:54:08Z</dcterms:modified>
  <cp:revision>7</cp:revision>
  <dc:subject/>
  <dc:title>Task 3.3</dc:title>
</cp:coreProperties>
</file>