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8FD8-1BCA-4454-BCD2-87A5BECFA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D251-BBEA-4EDE-9E9B-62E7459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6AD2-3394-49AE-8B2D-37A6CD7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2932-6C99-4111-AF3B-AD4536B44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5ED5-75A6-474E-A88F-BC9E4B9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3014-3B6A-439E-9DA6-6A001B0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5C81-9290-4E3B-BC4F-3D2FC64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731B-99E5-49EC-AE95-EF5A7147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2058-DD07-4C95-8B7D-5F9C1F1A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8F0D-74A2-4F4E-8054-E929BEC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A259-9B77-4F46-9C95-8B7B5EF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05C0-639C-46FA-9CAC-2FC213BE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663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79D-2C98-4938-95EA-21676CA6CD73}" type="slidenum">
              <a:rPr b="1" lang="en-GB" sz="1200" spc="-1" strike="noStrike">
                <a:solidFill>
                  <a:srgbClr val="0066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599240" y="189000"/>
          <a:ext cx="1544760" cy="13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9240" y="189000"/>
                    <a:ext cx="15447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457200" y="62625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       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Grenoble,</a:t>
            </a:r>
            <a:r>
              <a:rPr b="1" lang="en-US" sz="2800" spc="-1" strike="noStrike">
                <a:solidFill>
                  <a:srgbClr val="e02b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30040"/>
            <a:ext cx="7925040" cy="608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669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290"/>
                </a:solidFill>
                <a:latin typeface="Arial"/>
              </a:rPr>
              <a:t>Monitoring and Evaluation issues</a:t>
            </a:r>
            <a:r>
              <a:rPr b="0" lang="en-GB" sz="2800" spc="-1" strike="noStrike">
                <a:solidFill>
                  <a:srgbClr val="0022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290"/>
                </a:solidFill>
                <a:latin typeface="Arial"/>
              </a:rPr>
              <a:t>Grenoble 14-15 March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3336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2b00"/>
                </a:solidFill>
                <a:latin typeface="Verdana"/>
              </a:rPr>
              <a:t>EIE-Survey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00720" y="404640"/>
          <a:ext cx="233676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04640"/>
                    <a:ext cx="23367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979640" y="4221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1520" y="5181480"/>
            <a:ext cx="6139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Hélène FREMONT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Bordeaux1 University (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Eduardo RODRIGUEZ 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Vigo University (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4400" y="380880"/>
            <a:ext cx="631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 : synthe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75248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eople coming to the meetings have largely contributed to the survey (more than 50% of answers) and </a:t>
            </a:r>
            <a:r>
              <a:rPr b="0" lang="en-US" sz="2500" spc="-1" strike="noStrike">
                <a:solidFill>
                  <a:srgbClr val="e02b00"/>
                </a:solidFill>
                <a:latin typeface="Arial"/>
                <a:ea typeface="Arial"/>
              </a:rPr>
              <a:t>will continue within the dead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ow to get answers for other partners within the short left tim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F38F-2135-4F5A-B4BC-39F7739521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457200"/>
            <a:ext cx="6324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e02b00"/>
                </a:solidFill>
                <a:latin typeface="Arial"/>
                <a:ea typeface="Arial"/>
              </a:rPr>
              <a:t>Recommendations from the </a:t>
            </a: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1768320"/>
            <a:ext cx="868680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agmatic Strategy for the next last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end specific e-mails to partners in order to get answ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sk’s managers must be even more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olve the safety problems of the questionnaire web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pdate the websit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monitoring group/dissemination ta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33cc"/>
                </a:solidFill>
                <a:latin typeface="Arial"/>
              </a:rPr>
              <a:t>Monitors and managers should organise the external monit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4720-ABD7-45B8-8FF4-4E08F4507D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1752480"/>
            <a:ext cx="39625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ves Danto from Bordea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rge Esteves (E.R.S.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son known by Oli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6640" y="304920"/>
            <a:ext cx="696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External monitoring organi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2640" y="350532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1752480"/>
            <a:ext cx="42670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or de Kos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tín Llamas (IEEE Iberian Education Chap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5040" y="1143000"/>
            <a:ext cx="64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s contacted or to be cont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4038480"/>
            <a:ext cx="86868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of the organisation / life of the who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evolu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task by task : initial purposes / final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3579-5010-4F63-8F4D-0785DB011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457200"/>
            <a:ext cx="59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</a:t>
            </a:r>
            <a:br>
              <a:rPr sz="3400"/>
            </a:b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Grenoble,</a:t>
            </a:r>
            <a:r>
              <a:rPr b="1" lang="en-US" sz="2800" spc="-1" strike="noStrike">
                <a:solidFill>
                  <a:srgbClr val="e02b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6560" y="1600200"/>
            <a:ext cx="73407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ies were very g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ather was spring li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rganising team and the project’s manag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re very effic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752480" y="4495680"/>
            <a:ext cx="5581800" cy="1605240"/>
            <a:chOff x="1752480" y="4495680"/>
            <a:chExt cx="5581800" cy="1605240"/>
          </a:xfrm>
        </p:grpSpPr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3352680" y="4724280"/>
              <a:ext cx="1835280" cy="13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 txBox="1"/>
            <p:nvPr/>
          </p:nvSpPr>
          <p:spPr>
            <a:xfrm>
              <a:off x="1752480" y="4495680"/>
              <a:ext cx="5581800" cy="6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0033cc"/>
                  </a:solidFill>
                  <a:latin typeface="Arial"/>
                </a:rPr>
                <a:t>Thank You, Jean-Marc</a:t>
              </a:r>
              <a:endPara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33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1F48-C124-4EC4-A9B5-9D4450475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457200"/>
            <a:ext cx="77929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ole of the monitoring gro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981080"/>
            <a:ext cx="8763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feedback at the different task’s ma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eract with the Managing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constructive cri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7D5E-A188-4A7D-8E07-D8A3A41C3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523880"/>
            <a:ext cx="842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Questionnaire Web site had some complains concerning management from the partner point of view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Questionnaires are a bit difficult to be filled because of their number and complexity =&gt; Users need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is can be a problem: we have to know and manage those difficulties in adv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et ready for that and remember th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3cc"/>
                </a:solidFill>
                <a:latin typeface="Arial"/>
              </a:rPr>
              <a:t>We should not relax now 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57200"/>
            <a:ext cx="59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</a:t>
            </a:r>
            <a:br>
              <a:rPr sz="3400"/>
            </a:b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Heraklion,</a:t>
            </a:r>
            <a:r>
              <a:rPr b="1" lang="en-US" sz="2800" spc="-1" strike="noStrike">
                <a:solidFill>
                  <a:srgbClr val="e02b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45B0-3036-4DD8-96C2-68105ED14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9040" y="2598840"/>
            <a:ext cx="37360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country are you from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rance (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lovakia (2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rtugal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reland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pain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ulgaria (2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ypru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3048120"/>
            <a:ext cx="222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taly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ermany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nited Kingdo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stoni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elgiu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ree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l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thu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7772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bout 30 Questionnaires distributed to people from about 22 different organis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1 answers : roughly 100% of represented institu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2E35-667F-48DE-B906-D33DD77C5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952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TASK 1: Tuning Questionnaires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bout 10% of the expected amount of answers are yet collected. It is largely not sufficient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1 How did you manage the questionnaire dissemination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2681280"/>
            <a:ext cx="8304480" cy="3185280"/>
            <a:chOff x="533520" y="2681280"/>
            <a:chExt cx="8304480" cy="3185280"/>
          </a:xfrm>
        </p:grpSpPr>
        <p:grpSp>
          <p:nvGrpSpPr>
            <p:cNvPr id="99" name=""/>
            <p:cNvGrpSpPr/>
            <p:nvPr/>
          </p:nvGrpSpPr>
          <p:grpSpPr>
            <a:xfrm>
              <a:off x="533520" y="2681280"/>
              <a:ext cx="2111400" cy="795960"/>
              <a:chOff x="533520" y="2681280"/>
              <a:chExt cx="2111400" cy="79596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520" y="2681280"/>
                <a:ext cx="21114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533520" y="2681280"/>
                <a:ext cx="2111040" cy="795600"/>
                <a:chOff x="533520" y="2681280"/>
                <a:chExt cx="2111040" cy="7956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68080" y="2681280"/>
                  <a:ext cx="20415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33520" y="2681280"/>
                  <a:ext cx="21110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" name=""/>
            <p:cNvGrpSpPr/>
            <p:nvPr/>
          </p:nvGrpSpPr>
          <p:grpSpPr>
            <a:xfrm>
              <a:off x="2645280" y="2681280"/>
              <a:ext cx="1348200" cy="795960"/>
              <a:chOff x="2645280" y="2681280"/>
              <a:chExt cx="1348200" cy="795960"/>
            </a:xfrm>
          </p:grpSpPr>
          <p:sp>
            <p:nvSpPr>
              <p:cNvPr id="105" name=""/>
              <p:cNvSpPr/>
              <p:nvPr/>
            </p:nvSpPr>
            <p:spPr>
              <a:xfrm>
                <a:off x="2645280" y="2681280"/>
                <a:ext cx="13482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645280" y="2681280"/>
                <a:ext cx="1347840" cy="795600"/>
                <a:chOff x="2645280" y="2681280"/>
                <a:chExt cx="1347840" cy="7956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679120" y="2681280"/>
                  <a:ext cx="127908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udent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645280" y="2681280"/>
                  <a:ext cx="13478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3994200" y="2681280"/>
              <a:ext cx="1649160" cy="795960"/>
              <a:chOff x="3994200" y="2681280"/>
              <a:chExt cx="1649160" cy="795960"/>
            </a:xfrm>
          </p:grpSpPr>
          <p:sp>
            <p:nvSpPr>
              <p:cNvPr id="110" name=""/>
              <p:cNvSpPr/>
              <p:nvPr/>
            </p:nvSpPr>
            <p:spPr>
              <a:xfrm>
                <a:off x="3994200" y="2681280"/>
                <a:ext cx="16491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3994200" y="2681280"/>
                <a:ext cx="1648800" cy="795600"/>
                <a:chOff x="3994200" y="2681280"/>
                <a:chExt cx="1648800" cy="7956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028760" y="2681280"/>
                  <a:ext cx="15793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ademic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94200" y="2681280"/>
                  <a:ext cx="16488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5643720" y="2681280"/>
              <a:ext cx="1605600" cy="795960"/>
              <a:chOff x="5643720" y="2681280"/>
              <a:chExt cx="1605600" cy="795960"/>
            </a:xfrm>
          </p:grpSpPr>
          <p:sp>
            <p:nvSpPr>
              <p:cNvPr id="115" name=""/>
              <p:cNvSpPr/>
              <p:nvPr/>
            </p:nvSpPr>
            <p:spPr>
              <a:xfrm>
                <a:off x="5643720" y="2681280"/>
                <a:ext cx="16056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643720" y="2681280"/>
                <a:ext cx="1605240" cy="795600"/>
                <a:chOff x="5643720" y="2681280"/>
                <a:chExt cx="1605240" cy="795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78280" y="2681280"/>
                  <a:ext cx="15357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loy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643720" y="2681280"/>
                  <a:ext cx="16052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7250040" y="2681280"/>
              <a:ext cx="1587960" cy="795960"/>
              <a:chOff x="7250040" y="2681280"/>
              <a:chExt cx="1587960" cy="795960"/>
            </a:xfrm>
          </p:grpSpPr>
          <p:sp>
            <p:nvSpPr>
              <p:cNvPr id="120" name=""/>
              <p:cNvSpPr/>
              <p:nvPr/>
            </p:nvSpPr>
            <p:spPr>
              <a:xfrm>
                <a:off x="7250040" y="2681280"/>
                <a:ext cx="15879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250040" y="2681280"/>
                <a:ext cx="1587600" cy="795600"/>
                <a:chOff x="7250040" y="2681280"/>
                <a:chExt cx="1587600" cy="7956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284600" y="2681280"/>
                  <a:ext cx="15181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radua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50040" y="2681280"/>
                  <a:ext cx="15876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533520" y="3477600"/>
              <a:ext cx="2111400" cy="796320"/>
              <a:chOff x="533520" y="3477600"/>
              <a:chExt cx="2111400" cy="796320"/>
            </a:xfrm>
          </p:grpSpPr>
          <p:sp>
            <p:nvSpPr>
              <p:cNvPr id="125" name=""/>
              <p:cNvSpPr/>
              <p:nvPr/>
            </p:nvSpPr>
            <p:spPr>
              <a:xfrm>
                <a:off x="533520" y="3477600"/>
                <a:ext cx="2111400" cy="79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33520" y="3477600"/>
                <a:ext cx="2111040" cy="795960"/>
                <a:chOff x="533520" y="3477600"/>
                <a:chExt cx="2111040" cy="795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68080" y="3477600"/>
                  <a:ext cx="2041560" cy="79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per ver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3520" y="3477600"/>
                  <a:ext cx="211104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2645280" y="3477600"/>
              <a:ext cx="1348200" cy="796320"/>
              <a:chOff x="2645280" y="3477600"/>
              <a:chExt cx="1348200" cy="796320"/>
            </a:xfrm>
          </p:grpSpPr>
          <p:sp>
            <p:nvSpPr>
              <p:cNvPr id="130" name=""/>
              <p:cNvSpPr/>
              <p:nvPr/>
            </p:nvSpPr>
            <p:spPr>
              <a:xfrm>
                <a:off x="2645280" y="3477600"/>
                <a:ext cx="1348200" cy="79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645280" y="3477600"/>
                <a:ext cx="1347840" cy="795960"/>
                <a:chOff x="2645280" y="3477600"/>
                <a:chExt cx="1347840" cy="795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679120" y="3477600"/>
                  <a:ext cx="1279080" cy="79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645280" y="3477600"/>
                  <a:ext cx="134784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3994200" y="3477600"/>
              <a:ext cx="1649160" cy="796320"/>
              <a:chOff x="3994200" y="3477600"/>
              <a:chExt cx="1649160" cy="796320"/>
            </a:xfrm>
          </p:grpSpPr>
          <p:sp>
            <p:nvSpPr>
              <p:cNvPr id="135" name=""/>
              <p:cNvSpPr/>
              <p:nvPr/>
            </p:nvSpPr>
            <p:spPr>
              <a:xfrm>
                <a:off x="3994200" y="3477600"/>
                <a:ext cx="1649160" cy="79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3994200" y="3477600"/>
                <a:ext cx="1648800" cy="795960"/>
                <a:chOff x="3994200" y="3477600"/>
                <a:chExt cx="1648800" cy="795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8760" y="3477600"/>
                  <a:ext cx="1579320" cy="79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94200" y="3477600"/>
                  <a:ext cx="164880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643720" y="3477600"/>
              <a:ext cx="1605600" cy="796320"/>
              <a:chOff x="5643720" y="3477600"/>
              <a:chExt cx="1605600" cy="796320"/>
            </a:xfrm>
          </p:grpSpPr>
          <p:sp>
            <p:nvSpPr>
              <p:cNvPr id="140" name=""/>
              <p:cNvSpPr/>
              <p:nvPr/>
            </p:nvSpPr>
            <p:spPr>
              <a:xfrm>
                <a:off x="5643720" y="3477600"/>
                <a:ext cx="1605600" cy="79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5643720" y="3477600"/>
                <a:ext cx="1605240" cy="795960"/>
                <a:chOff x="5643720" y="3477600"/>
                <a:chExt cx="1605240" cy="7959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678280" y="3477600"/>
                  <a:ext cx="1535760" cy="79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643720" y="3477600"/>
                  <a:ext cx="160524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7250040" y="3477600"/>
              <a:ext cx="1587960" cy="796320"/>
              <a:chOff x="7250040" y="3477600"/>
              <a:chExt cx="1587960" cy="796320"/>
            </a:xfrm>
          </p:grpSpPr>
          <p:sp>
            <p:nvSpPr>
              <p:cNvPr id="145" name=""/>
              <p:cNvSpPr/>
              <p:nvPr/>
            </p:nvSpPr>
            <p:spPr>
              <a:xfrm>
                <a:off x="7250040" y="3477600"/>
                <a:ext cx="1587960" cy="79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250040" y="3477600"/>
                <a:ext cx="1587600" cy="795960"/>
                <a:chOff x="7250040" y="3477600"/>
                <a:chExt cx="1587600" cy="795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284600" y="3477600"/>
                  <a:ext cx="1518120" cy="79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250040" y="3477600"/>
                  <a:ext cx="158760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533520" y="4274280"/>
              <a:ext cx="2111400" cy="795960"/>
              <a:chOff x="533520" y="4274280"/>
              <a:chExt cx="2111400" cy="795960"/>
            </a:xfrm>
          </p:grpSpPr>
          <p:sp>
            <p:nvSpPr>
              <p:cNvPr id="150" name=""/>
              <p:cNvSpPr/>
              <p:nvPr/>
            </p:nvSpPr>
            <p:spPr>
              <a:xfrm>
                <a:off x="533520" y="4274280"/>
                <a:ext cx="21114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533520" y="4274280"/>
                <a:ext cx="2111040" cy="795600"/>
                <a:chOff x="533520" y="4274280"/>
                <a:chExt cx="2111040" cy="7956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68080" y="4274280"/>
                  <a:ext cx="20415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3520" y="4274280"/>
                  <a:ext cx="21110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2645280" y="4274280"/>
              <a:ext cx="1348200" cy="795960"/>
              <a:chOff x="2645280" y="4274280"/>
              <a:chExt cx="1348200" cy="795960"/>
            </a:xfrm>
          </p:grpSpPr>
          <p:sp>
            <p:nvSpPr>
              <p:cNvPr id="155" name=""/>
              <p:cNvSpPr/>
              <p:nvPr/>
            </p:nvSpPr>
            <p:spPr>
              <a:xfrm>
                <a:off x="2645280" y="4274280"/>
                <a:ext cx="13482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645280" y="4274280"/>
                <a:ext cx="1347840" cy="795600"/>
                <a:chOff x="2645280" y="4274280"/>
                <a:chExt cx="1347840" cy="795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679120" y="4274280"/>
                  <a:ext cx="127908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45280" y="4274280"/>
                  <a:ext cx="13478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994200" y="4274280"/>
              <a:ext cx="1649160" cy="795960"/>
              <a:chOff x="3994200" y="4274280"/>
              <a:chExt cx="1649160" cy="795960"/>
            </a:xfrm>
          </p:grpSpPr>
          <p:sp>
            <p:nvSpPr>
              <p:cNvPr id="160" name=""/>
              <p:cNvSpPr/>
              <p:nvPr/>
            </p:nvSpPr>
            <p:spPr>
              <a:xfrm>
                <a:off x="3994200" y="4274280"/>
                <a:ext cx="16491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994200" y="4274280"/>
                <a:ext cx="1648800" cy="795600"/>
                <a:chOff x="3994200" y="4274280"/>
                <a:chExt cx="1648800" cy="795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028760" y="4274280"/>
                  <a:ext cx="15793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94200" y="4274280"/>
                  <a:ext cx="16488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643720" y="4274280"/>
              <a:ext cx="1605600" cy="795960"/>
              <a:chOff x="5643720" y="4274280"/>
              <a:chExt cx="1605600" cy="795960"/>
            </a:xfrm>
          </p:grpSpPr>
          <p:sp>
            <p:nvSpPr>
              <p:cNvPr id="165" name=""/>
              <p:cNvSpPr/>
              <p:nvPr/>
            </p:nvSpPr>
            <p:spPr>
              <a:xfrm>
                <a:off x="5643720" y="4274280"/>
                <a:ext cx="16056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643720" y="4274280"/>
                <a:ext cx="1605240" cy="795600"/>
                <a:chOff x="5643720" y="4274280"/>
                <a:chExt cx="1605240" cy="7956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678280" y="4274280"/>
                  <a:ext cx="15357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643720" y="4274280"/>
                  <a:ext cx="16052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7250040" y="4274280"/>
              <a:ext cx="1587960" cy="795960"/>
              <a:chOff x="7250040" y="4274280"/>
              <a:chExt cx="1587960" cy="795960"/>
            </a:xfrm>
          </p:grpSpPr>
          <p:sp>
            <p:nvSpPr>
              <p:cNvPr id="170" name=""/>
              <p:cNvSpPr/>
              <p:nvPr/>
            </p:nvSpPr>
            <p:spPr>
              <a:xfrm>
                <a:off x="7250040" y="4274280"/>
                <a:ext cx="15879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7250040" y="4274280"/>
                <a:ext cx="1587600" cy="795600"/>
                <a:chOff x="7250040" y="4274280"/>
                <a:chExt cx="1587600" cy="7956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284600" y="4274280"/>
                  <a:ext cx="15181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250040" y="4274280"/>
                  <a:ext cx="15876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33520" y="5070600"/>
              <a:ext cx="2111400" cy="795960"/>
              <a:chOff x="533520" y="5070600"/>
              <a:chExt cx="2111400" cy="795960"/>
            </a:xfrm>
          </p:grpSpPr>
          <p:sp>
            <p:nvSpPr>
              <p:cNvPr id="175" name=""/>
              <p:cNvSpPr/>
              <p:nvPr/>
            </p:nvSpPr>
            <p:spPr>
              <a:xfrm>
                <a:off x="533520" y="5070600"/>
                <a:ext cx="21114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33520" y="5070600"/>
                <a:ext cx="2111040" cy="795600"/>
                <a:chOff x="533520" y="5070600"/>
                <a:chExt cx="2111040" cy="795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68080" y="5070600"/>
                  <a:ext cx="20415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b-site por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3520" y="5070600"/>
                  <a:ext cx="21110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2645280" y="5070600"/>
              <a:ext cx="1348200" cy="795960"/>
              <a:chOff x="2645280" y="5070600"/>
              <a:chExt cx="1348200" cy="795960"/>
            </a:xfrm>
          </p:grpSpPr>
          <p:sp>
            <p:nvSpPr>
              <p:cNvPr id="180" name=""/>
              <p:cNvSpPr/>
              <p:nvPr/>
            </p:nvSpPr>
            <p:spPr>
              <a:xfrm>
                <a:off x="2645280" y="5070600"/>
                <a:ext cx="13482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2645280" y="5070600"/>
                <a:ext cx="1347840" cy="795600"/>
                <a:chOff x="2645280" y="5070600"/>
                <a:chExt cx="1347840" cy="7956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679120" y="5070600"/>
                  <a:ext cx="127908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645280" y="5070600"/>
                  <a:ext cx="13478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3994200" y="5070600"/>
              <a:ext cx="1649160" cy="795960"/>
              <a:chOff x="3994200" y="5070600"/>
              <a:chExt cx="1649160" cy="795960"/>
            </a:xfrm>
          </p:grpSpPr>
          <p:sp>
            <p:nvSpPr>
              <p:cNvPr id="185" name=""/>
              <p:cNvSpPr/>
              <p:nvPr/>
            </p:nvSpPr>
            <p:spPr>
              <a:xfrm>
                <a:off x="3994200" y="5070600"/>
                <a:ext cx="16491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3994200" y="5070600"/>
                <a:ext cx="1648800" cy="795600"/>
                <a:chOff x="3994200" y="5070600"/>
                <a:chExt cx="1648800" cy="795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28760" y="5070600"/>
                  <a:ext cx="15793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994200" y="5070600"/>
                  <a:ext cx="16488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5643720" y="5070600"/>
              <a:ext cx="1605600" cy="795960"/>
              <a:chOff x="5643720" y="5070600"/>
              <a:chExt cx="1605600" cy="795960"/>
            </a:xfrm>
          </p:grpSpPr>
          <p:sp>
            <p:nvSpPr>
              <p:cNvPr id="190" name=""/>
              <p:cNvSpPr/>
              <p:nvPr/>
            </p:nvSpPr>
            <p:spPr>
              <a:xfrm>
                <a:off x="5643720" y="5070600"/>
                <a:ext cx="160560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643720" y="5070600"/>
                <a:ext cx="1605240" cy="795600"/>
                <a:chOff x="5643720" y="5070600"/>
                <a:chExt cx="1605240" cy="795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678280" y="5070600"/>
                  <a:ext cx="153576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643720" y="5070600"/>
                  <a:ext cx="160524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7250040" y="5070600"/>
              <a:ext cx="1587960" cy="795960"/>
              <a:chOff x="7250040" y="5070600"/>
              <a:chExt cx="1587960" cy="795960"/>
            </a:xfrm>
          </p:grpSpPr>
          <p:sp>
            <p:nvSpPr>
              <p:cNvPr id="195" name=""/>
              <p:cNvSpPr/>
              <p:nvPr/>
            </p:nvSpPr>
            <p:spPr>
              <a:xfrm>
                <a:off x="7250040" y="5070600"/>
                <a:ext cx="15879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7250040" y="5070600"/>
                <a:ext cx="1587600" cy="795600"/>
                <a:chOff x="7250040" y="5070600"/>
                <a:chExt cx="1587600" cy="795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284600" y="5070600"/>
                  <a:ext cx="1518120" cy="79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/2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250040" y="5070600"/>
                  <a:ext cx="158760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F78D-4742-4C1E-B834-3AE226FA66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5238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.2 Number of enquiries and percentage of answ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2238480"/>
            <a:ext cx="8381160" cy="3218760"/>
            <a:chOff x="228600" y="2238480"/>
            <a:chExt cx="8381160" cy="3218760"/>
          </a:xfrm>
        </p:grpSpPr>
        <p:grpSp>
          <p:nvGrpSpPr>
            <p:cNvPr id="202" name=""/>
            <p:cNvGrpSpPr/>
            <p:nvPr/>
          </p:nvGrpSpPr>
          <p:grpSpPr>
            <a:xfrm>
              <a:off x="228600" y="3200400"/>
              <a:ext cx="8381160" cy="2256840"/>
              <a:chOff x="228600" y="3200400"/>
              <a:chExt cx="8381160" cy="225684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228600" y="3200400"/>
                <a:ext cx="2838240" cy="752040"/>
                <a:chOff x="228600" y="3200400"/>
                <a:chExt cx="2838240" cy="75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28600" y="3200400"/>
                  <a:ext cx="28382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228600" y="3200400"/>
                  <a:ext cx="2837880" cy="751680"/>
                  <a:chOff x="228600" y="3200400"/>
                  <a:chExt cx="2837880" cy="7516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59560" y="3200400"/>
                    <a:ext cx="27756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8600" y="3200400"/>
                    <a:ext cx="28378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3067200" y="3200400"/>
                <a:ext cx="1206720" cy="752040"/>
                <a:chOff x="3067200" y="3200400"/>
                <a:chExt cx="1206720" cy="7520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067200" y="3200400"/>
                  <a:ext cx="12067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067200" y="3200400"/>
                  <a:ext cx="1206360" cy="751680"/>
                  <a:chOff x="3067200" y="3200400"/>
                  <a:chExt cx="1206360" cy="7516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098160" y="3200400"/>
                    <a:ext cx="11440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tudent 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067200" y="3200400"/>
                    <a:ext cx="12063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274280" y="3200400"/>
                <a:ext cx="1475640" cy="752040"/>
                <a:chOff x="4274280" y="3200400"/>
                <a:chExt cx="1475640" cy="7520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274280" y="3200400"/>
                  <a:ext cx="14756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4274280" y="3200400"/>
                  <a:ext cx="1475280" cy="751680"/>
                  <a:chOff x="4274280" y="3200400"/>
                  <a:chExt cx="1475280" cy="7516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305240" y="3200400"/>
                    <a:ext cx="14130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ademic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274280" y="3200400"/>
                    <a:ext cx="14752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5750640" y="3200400"/>
                <a:ext cx="1437120" cy="752040"/>
                <a:chOff x="5750640" y="3200400"/>
                <a:chExt cx="1437120" cy="75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750640" y="3200400"/>
                  <a:ext cx="14371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5750640" y="3200400"/>
                  <a:ext cx="1436760" cy="751680"/>
                  <a:chOff x="5750640" y="3200400"/>
                  <a:chExt cx="1436760" cy="7516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5781600" y="3200400"/>
                    <a:ext cx="13744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mployer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750640" y="3200400"/>
                    <a:ext cx="14367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7188480" y="3200400"/>
                <a:ext cx="1421280" cy="752040"/>
                <a:chOff x="7188480" y="3200400"/>
                <a:chExt cx="1421280" cy="7520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188480" y="3200400"/>
                  <a:ext cx="142128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7188480" y="3200400"/>
                  <a:ext cx="1420920" cy="751680"/>
                  <a:chOff x="7188480" y="3200400"/>
                  <a:chExt cx="1420920" cy="7516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7219440" y="3200400"/>
                    <a:ext cx="135864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raduate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188480" y="3200400"/>
                    <a:ext cx="142092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228600" y="3952800"/>
                <a:ext cx="2838240" cy="751680"/>
                <a:chOff x="228600" y="3952800"/>
                <a:chExt cx="2838240" cy="7516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8600" y="3952800"/>
                  <a:ext cx="283824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228600" y="3952800"/>
                  <a:ext cx="2837880" cy="751320"/>
                  <a:chOff x="228600" y="3952800"/>
                  <a:chExt cx="2837880" cy="751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259560" y="3952800"/>
                    <a:ext cx="277560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xpected amount 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28600" y="3952800"/>
                    <a:ext cx="283788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"/>
              <p:cNvGrpSpPr/>
              <p:nvPr/>
            </p:nvGrpSpPr>
            <p:grpSpPr>
              <a:xfrm>
                <a:off x="3067200" y="3952800"/>
                <a:ext cx="1206720" cy="751680"/>
                <a:chOff x="3067200" y="3952800"/>
                <a:chExt cx="1206720" cy="751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67200" y="3952800"/>
                  <a:ext cx="120672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3067200" y="3952800"/>
                  <a:ext cx="1206360" cy="751320"/>
                  <a:chOff x="3067200" y="3952800"/>
                  <a:chExt cx="1206360" cy="7513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3098160" y="3952800"/>
                    <a:ext cx="114408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18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067200" y="3952800"/>
                    <a:ext cx="120636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"/>
              <p:cNvGrpSpPr/>
              <p:nvPr/>
            </p:nvGrpSpPr>
            <p:grpSpPr>
              <a:xfrm>
                <a:off x="4274280" y="3952800"/>
                <a:ext cx="1475640" cy="751680"/>
                <a:chOff x="4274280" y="3952800"/>
                <a:chExt cx="1475640" cy="751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74280" y="3952800"/>
                  <a:ext cx="147564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4274280" y="3952800"/>
                  <a:ext cx="1475280" cy="751320"/>
                  <a:chOff x="4274280" y="3952800"/>
                  <a:chExt cx="1475280" cy="7513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305240" y="3952800"/>
                    <a:ext cx="141300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</a:t>
                    </a: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4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274280" y="3952800"/>
                    <a:ext cx="147528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5750640" y="3952800"/>
                <a:ext cx="1437120" cy="751680"/>
                <a:chOff x="5750640" y="3952800"/>
                <a:chExt cx="1437120" cy="7516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750640" y="3952800"/>
                  <a:ext cx="143712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5750640" y="3952800"/>
                  <a:ext cx="1436760" cy="751320"/>
                  <a:chOff x="5750640" y="3952800"/>
                  <a:chExt cx="1436760" cy="7513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781600" y="3952800"/>
                    <a:ext cx="137448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15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750640" y="3952800"/>
                    <a:ext cx="143676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7188480" y="3952800"/>
                <a:ext cx="1421280" cy="751680"/>
                <a:chOff x="7188480" y="3952800"/>
                <a:chExt cx="1421280" cy="751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188480" y="3952800"/>
                  <a:ext cx="142128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7188480" y="3952800"/>
                  <a:ext cx="1420920" cy="751320"/>
                  <a:chOff x="7188480" y="3952800"/>
                  <a:chExt cx="1420920" cy="7513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7219440" y="3952800"/>
                    <a:ext cx="135864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26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188480" y="3952800"/>
                    <a:ext cx="142092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" name=""/>
              <p:cNvGrpSpPr/>
              <p:nvPr/>
            </p:nvGrpSpPr>
            <p:grpSpPr>
              <a:xfrm>
                <a:off x="228600" y="4705200"/>
                <a:ext cx="2838240" cy="752040"/>
                <a:chOff x="228600" y="4705200"/>
                <a:chExt cx="2838240" cy="752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28600" y="4705200"/>
                  <a:ext cx="28382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228600" y="4705200"/>
                  <a:ext cx="2837880" cy="751680"/>
                  <a:chOff x="228600" y="4705200"/>
                  <a:chExt cx="2837880" cy="751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259560" y="4705200"/>
                    <a:ext cx="27756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xpected amount 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rom the answering peopl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28600" y="4705200"/>
                    <a:ext cx="28378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"/>
              <p:cNvGrpSpPr/>
              <p:nvPr/>
            </p:nvGrpSpPr>
            <p:grpSpPr>
              <a:xfrm>
                <a:off x="3067200" y="4705200"/>
                <a:ext cx="1206720" cy="752040"/>
                <a:chOff x="3067200" y="4705200"/>
                <a:chExt cx="1206720" cy="752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67200" y="4705200"/>
                  <a:ext cx="12067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3067200" y="4705200"/>
                  <a:ext cx="1206360" cy="751680"/>
                  <a:chOff x="3067200" y="4705200"/>
                  <a:chExt cx="1206360" cy="7516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098160" y="4705200"/>
                    <a:ext cx="11440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e02b00"/>
                        </a:solidFill>
                        <a:latin typeface="Arial"/>
                        <a:ea typeface="Arial"/>
                      </a:rPr>
                      <a:t>~42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067200" y="4705200"/>
                    <a:ext cx="12063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274280" y="4705200"/>
                <a:ext cx="1475640" cy="752040"/>
                <a:chOff x="4274280" y="4705200"/>
                <a:chExt cx="1475640" cy="7520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274280" y="4705200"/>
                  <a:ext cx="14756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4274280" y="4705200"/>
                  <a:ext cx="1475280" cy="751680"/>
                  <a:chOff x="4274280" y="4705200"/>
                  <a:chExt cx="1475280" cy="7516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4305240" y="4705200"/>
                    <a:ext cx="14130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e02b00"/>
                        </a:solidFill>
                        <a:latin typeface="Arial"/>
                        <a:ea typeface="Arial"/>
                      </a:rPr>
                      <a:t>~2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274280" y="4705200"/>
                    <a:ext cx="14752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5750640" y="4705200"/>
                <a:ext cx="1437120" cy="752040"/>
                <a:chOff x="5750640" y="4705200"/>
                <a:chExt cx="1437120" cy="7520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750640" y="4705200"/>
                  <a:ext cx="14371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5750640" y="4705200"/>
                  <a:ext cx="1436760" cy="751680"/>
                  <a:chOff x="5750640" y="4705200"/>
                  <a:chExt cx="1436760" cy="7516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5781600" y="4705200"/>
                    <a:ext cx="13744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e02b00"/>
                        </a:solidFill>
                        <a:latin typeface="Arial"/>
                        <a:ea typeface="Arial"/>
                      </a:rPr>
                      <a:t>~4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750640" y="4705200"/>
                    <a:ext cx="14367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"/>
              <p:cNvGrpSpPr/>
              <p:nvPr/>
            </p:nvGrpSpPr>
            <p:grpSpPr>
              <a:xfrm>
                <a:off x="7188480" y="4705200"/>
                <a:ext cx="1421280" cy="752040"/>
                <a:chOff x="7188480" y="4705200"/>
                <a:chExt cx="1421280" cy="7520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188480" y="4705200"/>
                  <a:ext cx="142128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188480" y="4705200"/>
                  <a:ext cx="1420920" cy="751680"/>
                  <a:chOff x="7188480" y="4705200"/>
                  <a:chExt cx="1420920" cy="7516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219440" y="4705200"/>
                    <a:ext cx="135864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e02b00"/>
                        </a:solidFill>
                        <a:latin typeface="Arial"/>
                        <a:ea typeface="Arial"/>
                      </a:rPr>
                      <a:t>~10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188480" y="4705200"/>
                    <a:ext cx="142092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8" name=""/>
            <p:cNvGrpSpPr/>
            <p:nvPr/>
          </p:nvGrpSpPr>
          <p:grpSpPr>
            <a:xfrm>
              <a:off x="228600" y="2238480"/>
              <a:ext cx="8381160" cy="2256480"/>
              <a:chOff x="228600" y="2238480"/>
              <a:chExt cx="8381160" cy="22564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28600" y="2238480"/>
                <a:ext cx="2838240" cy="752040"/>
                <a:chOff x="228600" y="2238480"/>
                <a:chExt cx="2838240" cy="752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28600" y="2238480"/>
                  <a:ext cx="28382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28600" y="2238480"/>
                  <a:ext cx="2837880" cy="751680"/>
                  <a:chOff x="228600" y="2238480"/>
                  <a:chExt cx="2837880" cy="7516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259560" y="2238480"/>
                    <a:ext cx="27756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600" y="2238480"/>
                    <a:ext cx="28378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3067200" y="2238480"/>
                <a:ext cx="1206720" cy="752040"/>
                <a:chOff x="3067200" y="2238480"/>
                <a:chExt cx="1206720" cy="7520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067200" y="2238480"/>
                  <a:ext cx="12067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3067200" y="2238480"/>
                  <a:ext cx="1206360" cy="751680"/>
                  <a:chOff x="3067200" y="2238480"/>
                  <a:chExt cx="1206360" cy="75168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3098160" y="2238480"/>
                    <a:ext cx="11440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tudent 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067200" y="2238480"/>
                    <a:ext cx="12063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" name=""/>
              <p:cNvGrpSpPr/>
              <p:nvPr/>
            </p:nvGrpSpPr>
            <p:grpSpPr>
              <a:xfrm>
                <a:off x="4274280" y="2238480"/>
                <a:ext cx="1475640" cy="752040"/>
                <a:chOff x="4274280" y="2238480"/>
                <a:chExt cx="1475640" cy="752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274280" y="2238480"/>
                  <a:ext cx="14756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4274280" y="2238480"/>
                  <a:ext cx="1475280" cy="751680"/>
                  <a:chOff x="4274280" y="2238480"/>
                  <a:chExt cx="1475280" cy="7516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305240" y="2238480"/>
                    <a:ext cx="14130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ademic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274280" y="2238480"/>
                    <a:ext cx="14752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5750640" y="2238480"/>
                <a:ext cx="1437120" cy="752040"/>
                <a:chOff x="5750640" y="2238480"/>
                <a:chExt cx="1437120" cy="7520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50640" y="2238480"/>
                  <a:ext cx="14371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5750640" y="2238480"/>
                  <a:ext cx="1436760" cy="751680"/>
                  <a:chOff x="5750640" y="2238480"/>
                  <a:chExt cx="1436760" cy="751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5781600" y="2238480"/>
                    <a:ext cx="13744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mployer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750640" y="2238480"/>
                    <a:ext cx="14367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7188480" y="2238480"/>
                <a:ext cx="1421280" cy="752040"/>
                <a:chOff x="7188480" y="2238480"/>
                <a:chExt cx="1421280" cy="7520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88480" y="2238480"/>
                  <a:ext cx="142128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7188480" y="2238480"/>
                  <a:ext cx="1420920" cy="751680"/>
                  <a:chOff x="7188480" y="2238480"/>
                  <a:chExt cx="1420920" cy="7516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7219440" y="2238480"/>
                    <a:ext cx="135864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raduate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188480" y="2238480"/>
                    <a:ext cx="142092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228600" y="2990880"/>
                <a:ext cx="2838240" cy="751680"/>
                <a:chOff x="228600" y="2990880"/>
                <a:chExt cx="2838240" cy="7516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28600" y="2990880"/>
                  <a:ext cx="283824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228600" y="2990880"/>
                  <a:ext cx="2837880" cy="751320"/>
                  <a:chOff x="228600" y="2990880"/>
                  <a:chExt cx="2837880" cy="7513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259560" y="2990880"/>
                    <a:ext cx="277560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umber of enquirie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28600" y="2990880"/>
                    <a:ext cx="283788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3067200" y="2990880"/>
                <a:ext cx="1206720" cy="751680"/>
                <a:chOff x="3067200" y="2990880"/>
                <a:chExt cx="1206720" cy="751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067200" y="2990880"/>
                  <a:ext cx="120672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3067200" y="2990880"/>
                  <a:ext cx="1206360" cy="751320"/>
                  <a:chOff x="3067200" y="2990880"/>
                  <a:chExt cx="1206360" cy="7513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098160" y="2990880"/>
                    <a:ext cx="114408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180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067200" y="2990880"/>
                    <a:ext cx="120636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4274280" y="2990880"/>
                <a:ext cx="1475640" cy="751680"/>
                <a:chOff x="4274280" y="2990880"/>
                <a:chExt cx="1475640" cy="751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274280" y="2990880"/>
                  <a:ext cx="147564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274280" y="2990880"/>
                  <a:ext cx="1475280" cy="751320"/>
                  <a:chOff x="4274280" y="2990880"/>
                  <a:chExt cx="1475280" cy="7513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305240" y="2990880"/>
                    <a:ext cx="141300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</a:t>
                    </a: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4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274280" y="2990880"/>
                    <a:ext cx="147528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5750640" y="2990880"/>
                <a:ext cx="1437120" cy="751680"/>
                <a:chOff x="5750640" y="2990880"/>
                <a:chExt cx="1437120" cy="7516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750640" y="2990880"/>
                  <a:ext cx="143712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5750640" y="2990880"/>
                  <a:ext cx="1436760" cy="751320"/>
                  <a:chOff x="5750640" y="2990880"/>
                  <a:chExt cx="1436760" cy="7513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5781600" y="2990880"/>
                    <a:ext cx="137448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15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5750640" y="2990880"/>
                    <a:ext cx="143676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7188480" y="2990880"/>
                <a:ext cx="1421280" cy="751680"/>
                <a:chOff x="7188480" y="2990880"/>
                <a:chExt cx="1421280" cy="751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188480" y="2990880"/>
                  <a:ext cx="1421280" cy="751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7188480" y="2990880"/>
                  <a:ext cx="1420920" cy="751320"/>
                  <a:chOff x="7188480" y="2990880"/>
                  <a:chExt cx="1420920" cy="7513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7219440" y="2990880"/>
                    <a:ext cx="1358640" cy="75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26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188480" y="2990880"/>
                    <a:ext cx="1420920" cy="75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" name=""/>
              <p:cNvGrpSpPr/>
              <p:nvPr/>
            </p:nvGrpSpPr>
            <p:grpSpPr>
              <a:xfrm>
                <a:off x="228600" y="3742920"/>
                <a:ext cx="2838240" cy="752040"/>
                <a:chOff x="228600" y="3742920"/>
                <a:chExt cx="2838240" cy="75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28600" y="3742920"/>
                  <a:ext cx="28382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228600" y="3742920"/>
                  <a:ext cx="2837880" cy="751680"/>
                  <a:chOff x="228600" y="3742920"/>
                  <a:chExt cx="2837880" cy="7516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59560" y="3742920"/>
                    <a:ext cx="27756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ercentage of answer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28600" y="3742920"/>
                    <a:ext cx="28378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" name=""/>
              <p:cNvGrpSpPr/>
              <p:nvPr/>
            </p:nvGrpSpPr>
            <p:grpSpPr>
              <a:xfrm>
                <a:off x="3067200" y="3742920"/>
                <a:ext cx="1206720" cy="752040"/>
                <a:chOff x="3067200" y="3742920"/>
                <a:chExt cx="1206720" cy="7520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067200" y="3742920"/>
                  <a:ext cx="12067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3067200" y="3742920"/>
                  <a:ext cx="1206360" cy="751680"/>
                  <a:chOff x="3067200" y="3742920"/>
                  <a:chExt cx="1206360" cy="7516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3098160" y="3742920"/>
                    <a:ext cx="11440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65%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1200)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067200" y="3742920"/>
                    <a:ext cx="12063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"/>
              <p:cNvGrpSpPr/>
              <p:nvPr/>
            </p:nvGrpSpPr>
            <p:grpSpPr>
              <a:xfrm>
                <a:off x="4274280" y="3742920"/>
                <a:ext cx="1475640" cy="752040"/>
                <a:chOff x="4274280" y="3742920"/>
                <a:chExt cx="1475640" cy="7520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274280" y="3742920"/>
                  <a:ext cx="147564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4274280" y="3742920"/>
                  <a:ext cx="1475280" cy="751680"/>
                  <a:chOff x="4274280" y="3742920"/>
                  <a:chExt cx="1475280" cy="7516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305240" y="3742920"/>
                    <a:ext cx="141300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~</a:t>
                    </a: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%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150)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274280" y="3742920"/>
                    <a:ext cx="147528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5750640" y="3742920"/>
                <a:ext cx="1437120" cy="752040"/>
                <a:chOff x="5750640" y="3742920"/>
                <a:chExt cx="1437120" cy="7520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750640" y="3742920"/>
                  <a:ext cx="143712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5750640" y="3742920"/>
                  <a:ext cx="1436760" cy="751680"/>
                  <a:chOff x="5750640" y="3742920"/>
                  <a:chExt cx="1436760" cy="7516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781600" y="3742920"/>
                    <a:ext cx="137448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35%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50)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750640" y="3742920"/>
                    <a:ext cx="143676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7188480" y="3742920"/>
                <a:ext cx="1421280" cy="752040"/>
                <a:chOff x="7188480" y="3742920"/>
                <a:chExt cx="1421280" cy="7520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188480" y="3742920"/>
                  <a:ext cx="1421280" cy="75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7188480" y="3742920"/>
                  <a:ext cx="1420920" cy="751680"/>
                  <a:chOff x="7188480" y="3742920"/>
                  <a:chExt cx="1420920" cy="7516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7219440" y="3742920"/>
                    <a:ext cx="1358640" cy="75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25%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65)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188480" y="3742920"/>
                    <a:ext cx="1420920" cy="75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54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7360" y="560232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answers : ~ 14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CA25-5625-49A3-AB60-E82E532583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280" y="1143000"/>
            <a:ext cx="89154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3 Comments regarding the problems you encounte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Questionnaires are too long or too complicated so they are very time consumi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re are overlapping question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re have been problems with the web page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me people do not have enough stude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me people consider have faced problems with the English ques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4 Managing them before the end of May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ostly encouraging colleagues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sking new students to perform the questionnai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more complicated with graduates and employer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2CB6-65A4-4881-9B56-BF2BD970C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4049640"/>
            <a:ext cx="86868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ask 3 (Monograph, Bologna Proce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.1 Who is the person in charge in your Country for answering this questionnaire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4/21 don’t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id s/he answ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Yes: 13/21, Not Known: 2/21, No: 5/21, No response: 1/2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14640"/>
            <a:ext cx="91440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.2 Who is the person in charge in your Country for answering the accreditation questionnai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/21 don’t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.3. Did s/he answer? (Yes, No, I don't know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Yes: 12/21, Not know: 4/21, No: 3/21 , No response: 2/2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27620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TASK 1.3 :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bout 50% of countries answer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20FE-22E9-474B-8B5B-116434C49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8600" y="1219320"/>
            <a:ext cx="876312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4. Task 3.3 Portal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: answers from 30 surveyor partn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4.1 Did you personally answer (or ask the person in charge in your institution) 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Yes 10/21, Not Known: 1/21, No 9/2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4.2 If not, why ? and when will you do it 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Because of connection problems and/or other occup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Most of them will try to answer before the end of Mar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1880" y="380880"/>
            <a:ext cx="394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Results of e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FC89-8749-473D-A104-E399649EE3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1:09Z</dcterms:created>
  <dc:creator>Victor de Kosinsky</dc:creator>
  <dc:description/>
  <dc:language>en-US</dc:language>
  <cp:lastModifiedBy>Frémont</cp:lastModifiedBy>
  <dcterms:modified xsi:type="dcterms:W3CDTF">2008-03-15T15:26:28Z</dcterms:modified>
  <cp:revision>133</cp:revision>
  <dc:subject>Evaluation Dec 2006</dc:subject>
  <dc:title>EIE-Surveyor</dc:title>
</cp:coreProperties>
</file>