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9D87-5CFA-4461-A0C5-3799E384D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710C-9F72-4928-B250-EB5B92E2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D967-8D5B-4523-9E78-473C77497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9C76-2020-4892-A8AE-AFC38E63E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79AF-155D-4DBE-B93B-7D4A2467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A627-63B5-4ECB-A8AE-F0032DAF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1162-B71D-459D-BFC7-F82A2139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1C4E-B810-490F-88B6-8390189A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FCE8-E4D1-488E-8049-37D3CF4D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DE40-5794-4E62-9EB3-2DF06C77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7A58-FC1F-4C0F-9DA1-191527E6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57AC-A64E-46C1-9C96-34F28F8D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DFC3-837F-4082-AB72-3B8E8ECCE9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working groups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Grenoble March 14th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38080" y="2209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Constitution of the working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332000" y="2997360"/>
            <a:ext cx="6705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Maciel Barbosa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 (PT)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Cyril Burkley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 (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Michael Hoffmann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 (DE) </a:t>
            </a:r>
            <a:br>
              <a:rPr sz="2400"/>
            </a:b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Romanas Krivickas (LT)</a:t>
            </a:r>
            <a:br>
              <a:rPr sz="2400"/>
            </a:b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Albert Leone-Ganado (MT)</a:t>
            </a:r>
            <a:br>
              <a:rPr sz="2400"/>
            </a:b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Saba Mylvaganam (NO)</a:t>
            </a:r>
            <a:br>
              <a:rPr sz="2400"/>
            </a:b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George Papadourakis (GR)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Daniel Pasquet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 (FR)</a:t>
            </a:r>
            <a:br>
              <a:rPr sz="2400"/>
            </a:b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Georgios Tsirigoti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(G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working groups meeting 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Grenoble March 14th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5"/>
          <p:cNvSpPr/>
          <p:nvPr/>
        </p:nvSpPr>
        <p:spPr>
          <a:xfrm>
            <a:off x="2124000" y="1844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2.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258920" y="2852640"/>
          <a:ext cx="6864480" cy="2446560"/>
        </p:xfrm>
        <a:graphic>
          <a:graphicData uri="http://schemas.openxmlformats.org/drawingml/2006/table">
            <a:tbl>
              <a:tblPr/>
              <a:tblGrid>
                <a:gridCol w="1373040"/>
                <a:gridCol w="1373400"/>
                <a:gridCol w="1371600"/>
                <a:gridCol w="1373040"/>
                <a:gridCol w="137340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 documentation provided in advance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aluated during the visit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ilities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ject reports/thesis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working groups meeting 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Grenoble March 14th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2124000" y="1844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3. Evaluation vis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468360" y="2276640"/>
            <a:ext cx="74883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What is the frequency of the visits?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verage 5 y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What is the size of the visiting pane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verage 4.3 pers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How is it composed of?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cademics:  86%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ndustrial:  55%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What is the duration of the visit?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verage 2.3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Whom do the panel meet during their visi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tudents  91%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cademic staff 95%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echnical staff  5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dministrative staff  82%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mployers  36%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graduates  41%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working groups meeting 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Grenoble March 14th, 2008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124000" y="1844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4. 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611280" y="2852640"/>
            <a:ext cx="8064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To whom do the review panel report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government  50%    university  32%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independent agency   41%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Who makes the final decision?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government  55%    independent agency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36%  no answer 9%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What are the different possible decisions?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full accreditation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9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ccreditation for reduced period of time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8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o accreditation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8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dditional non-compulsory recommendations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4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working groups meeting 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Grenoble March 14th, 2008</a:t>
            </a:r>
            <a:r>
              <a:rPr b="1" lang="fr-FR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124000" y="1844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ficulties -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39640" y="2781360"/>
            <a:ext cx="80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 some countries there is not yet any accredi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ransient from program accreditation to a system accreditation in some count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ho pays the expenses (government, university, other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ster programs to be accredited in every count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s industry placement compulsory in every count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ust ECTS criteria be completed to assess methodology and content in order to produce comparable accreditation procedu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working groups meeting 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Grenoble March 14th, 2008</a:t>
            </a:r>
            <a:r>
              <a:rPr b="1" lang="fr-FR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124000" y="1844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been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39640" y="2781360"/>
            <a:ext cx="80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evelopment of a question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ave sent the question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atistical analysis of th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lustering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issemination through SE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working groups meeting 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Grenoble March 14th, 2008</a:t>
            </a:r>
            <a:r>
              <a:rPr b="1" lang="fr-FR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2124000" y="1844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remains to be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39640" y="2781360"/>
            <a:ext cx="80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llection of further questionna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nalysis of the 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ther dissemination (Tallinn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rite papers (specific to clusters or/and synthet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nal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working groups meeting 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Grenoble March 14th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838080" y="2209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Different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1763640" y="2781360"/>
            <a:ext cx="6705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Writing the questionnaire: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 all the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Sending the questionnaire: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 D. Pasqu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Receiving the questionnaire: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 M. Barb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Statistics: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 G. Papadourak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working groups meeting 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Grenoble March 14th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838080" y="2209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Disse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547640" y="3213000"/>
            <a:ext cx="6705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Statistical results of the question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Communication at Pragu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Communication at CETSIS meeting in Bordea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Communication at SEFI 2008 in Aalb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Final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working groups meeting 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Grenoble March 14th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838080" y="2209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Answers to the question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763640" y="2781360"/>
            <a:ext cx="6705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22 received from 18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Some countries: several accreditation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(DE: 6, FR: 3,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working groups meeting 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Grenoble March 14th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838080" y="2209680"/>
            <a:ext cx="807732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accreditation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Times New Roman"/>
              </a:rPr>
              <a:t>Is the accreditation compulsory to deliver engineering degrees in EIE?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6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Times New Roman"/>
              </a:rPr>
              <a:t>Is the accreditation given by</a:t>
            </a:r>
            <a:r>
              <a:rPr b="1" lang="en-GB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government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6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University (ies)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5%  (several possib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professional body (ies)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5%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independent agency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4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Times New Roman"/>
              </a:rPr>
              <a:t>Is the accreditation given to</a:t>
            </a:r>
            <a:r>
              <a:rPr b="1" lang="en-GB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 programme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7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 department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2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the whole institution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56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Times New Roman"/>
              </a:rPr>
              <a:t>The accreditation body is constituted by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faculty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6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mployers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4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ngineers in industry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1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mbers of accreditation body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59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1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working groups meeting 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Grenoble March 14th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838080" y="2209680"/>
            <a:ext cx="807732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accreditation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Is the accreditation body itself subject to an accreditation or validation process?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Yes 5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Are there links with other accreditation bodies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nternational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3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uropean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5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often do not know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Does the accreditation include quality assurance measur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7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working groups meeting 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Grenoble March 14th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4360" y="2349360"/>
          <a:ext cx="7632720" cy="2803680"/>
        </p:xfrm>
        <a:graphic>
          <a:graphicData uri="http://schemas.openxmlformats.org/drawingml/2006/table">
            <a:tbl>
              <a:tblPr/>
              <a:tblGrid>
                <a:gridCol w="1525320"/>
                <a:gridCol w="1527120"/>
                <a:gridCol w="1527480"/>
                <a:gridCol w="1527120"/>
                <a:gridCol w="152568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 documentation provided in advance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aluated during the visit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ricu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ent examination scripts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ination papers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453"/>
          <p:cNvSpPr/>
          <p:nvPr/>
        </p:nvSpPr>
        <p:spPr>
          <a:xfrm>
            <a:off x="1763640" y="184464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2.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working groups meeting 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Grenoble March 14th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9640" y="2924280"/>
          <a:ext cx="8209080" cy="2073240"/>
        </p:xfrm>
        <a:graphic>
          <a:graphicData uri="http://schemas.openxmlformats.org/drawingml/2006/table">
            <a:tbl>
              <a:tblPr/>
              <a:tblGrid>
                <a:gridCol w="2303640"/>
                <a:gridCol w="1081080"/>
                <a:gridCol w="1339920"/>
                <a:gridCol w="1527120"/>
                <a:gridCol w="195732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 documentation provided in advance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aluated during the visit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ents´performance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ademic staff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ruitment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 Box 39"/>
          <p:cNvSpPr/>
          <p:nvPr/>
        </p:nvSpPr>
        <p:spPr>
          <a:xfrm>
            <a:off x="2124000" y="1844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2.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working groups meeting 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Grenoble March 14th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84360" y="2924280"/>
          <a:ext cx="7632720" cy="2803320"/>
        </p:xfrm>
        <a:graphic>
          <a:graphicData uri="http://schemas.openxmlformats.org/drawingml/2006/table">
            <a:tbl>
              <a:tblPr/>
              <a:tblGrid>
                <a:gridCol w="1525320"/>
                <a:gridCol w="1527120"/>
                <a:gridCol w="1527480"/>
                <a:gridCol w="1527120"/>
                <a:gridCol w="152568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 documentation provided in advance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aluated during the visit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arch activities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loyment of gradu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laboration with industry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Text Box 35"/>
          <p:cNvSpPr/>
          <p:nvPr/>
        </p:nvSpPr>
        <p:spPr>
          <a:xfrm>
            <a:off x="2124000" y="1844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2.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6T12:39:06Z</dcterms:created>
  <dc:creator>pasquet</dc:creator>
  <dc:description/>
  <dc:language>en-US</dc:language>
  <cp:lastModifiedBy>Prof. Dr. Michael Hoffmann</cp:lastModifiedBy>
  <dcterms:modified xsi:type="dcterms:W3CDTF">2008-03-15T13:12:12Z</dcterms:modified>
  <cp:revision>29</cp:revision>
  <dc:subject/>
  <dc:title>Surveyor working group meeting Craiova June 3rd, 2006</dc:title>
</cp:coreProperties>
</file>