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8670-7083-4E92-8882-2422A743F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046A-BF83-4A46-9F7B-A49F03CD2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B590-AA6B-450C-8015-F3EC1D06C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4608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6072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144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4608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6072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5FE9-19A0-4F1D-AA37-C7E1240EF8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DF9F-1BE3-4FD6-957E-87B77A81D2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FE62-3441-452E-A489-6FA60C303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ECFF-1853-45A7-84D4-8A77CE563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0531-7618-482E-B31C-CDC5062B3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11240" y="274680"/>
            <a:ext cx="7493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CE63-F260-41F8-9A04-1138E4940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B1F6-D385-4DD5-A0C5-543C3907D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8433-48CF-4C07-8B78-047ABDF98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CF73-C5E0-4193-B422-388C41472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165240" cy="5638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03480" y="6378480"/>
            <a:ext cx="709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ing Group Meeting, Grenoble (France), 14th – 15th March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616880" y="6356520"/>
            <a:ext cx="122400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9D53-7E23-416E-8FE9-463F2EC333A0}" type="slidenum">
              <a:rPr b="1" lang="fr-F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404280" y="643212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0796-7604-4749-B3BD-CBABE14A4376}" type="slidenum">
              <a:rPr b="1" lang="fr-FR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254160" y="274680"/>
          <a:ext cx="165708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274680"/>
                    <a:ext cx="1657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219240" y="6256440"/>
          <a:ext cx="838080" cy="55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6256440"/>
                    <a:ext cx="8380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1103400" y="6273720"/>
          <a:ext cx="681120" cy="54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03400" y="6273720"/>
                    <a:ext cx="68112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" name=""/>
          <p:cNvGraphicFramePr/>
          <p:nvPr/>
        </p:nvGraphicFramePr>
        <p:xfrm>
          <a:off x="2505240" y="2060640"/>
          <a:ext cx="4437000" cy="400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5240" y="2060640"/>
                    <a:ext cx="4437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" name=""/>
          <p:cNvSpPr/>
          <p:nvPr/>
        </p:nvSpPr>
        <p:spPr>
          <a:xfrm>
            <a:off x="415800" y="1413000"/>
            <a:ext cx="9396360" cy="46195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2728800"/>
            <a:ext cx="8420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Working Group team Meeting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Marc THIRIE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iversité Joseph Fourier Gre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85720" y="4484160"/>
            <a:ext cx="6933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ienvenue à Grenoble (France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4th – 15th March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518160" y="2365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884320" y="260280"/>
            <a:ext cx="283716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vel and subsistence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lculation of subsistence costs: 1 per diem / night + ½ per diem for travel (NOT M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bsistence costs eligible for external experts coming from outside Socrates countries (but not Travel co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vel and subsistence costs for students participating to the plenary meeting are 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eclaration of costs (travel, accomodation) as co-financing of your institution for « travel and subsistence 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Other travel and subsistence (for instance days for your participation to the EAEEIE confe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Staff costs – 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staff costs related to all persons involved in the project by institution can be charged into the project, according to the time effectively spent =&gt; </a:t>
            </a: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BE REALISTIC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costs should be calculated on the hourly, daily, monthly 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gros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st (salaire brut) multiplied by the number of hours, days or months 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beneficiary and partners must keep full and accurat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sonnel costs should not exceed the norm for the labour market conc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lonteer costs (bénévoles) not eligible – real cos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quipment and mate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tal value &lt; € 1 000, the 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full purchase valu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s eligible, adjusted to the percentage use in the project;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urchase price &gt; € 1 000, hardware and equipment are considered as having a life expectancy of 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three year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ample: the allowable cost in year one for a piece of equipment worth € 10 000, which is used 50 % for the project, amounts to € 1 666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0 000 x 33.33% x 50% = € 1 666.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s required: invo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costs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231920"/>
            <a:ext cx="8915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k charge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ning or maintaining of an account established especially for the project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nk transfer and exchange costs relating to receipts and payments for eligible expenditure under the projec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&gt; contacter le service financier pour récupérer les coûts bancaires des transfe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incurred in producing, translating and publishing documents, performed by one of the member orga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 communication costs in duly justified cases for projects where activities require very intensive use of this type of commun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ring of conference halls or training premises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s required: Inv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Declaration of costs (registration) as co-financing of your institution for « other costs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x: registration for the EAEEIE con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AEEIE membership 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Renting of ro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66cc"/>
                </a:solidFill>
                <a:latin typeface="Arial"/>
              </a:rPr>
              <a:t>TAKE CARE !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Only in the eligible zone (EU27 + NO + IS + FL + 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dd jus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0000"/>
                </a:solidFill>
                <a:latin typeface="Arial"/>
              </a:rPr>
              <a:t>Keep records of all your documents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ff0000"/>
                </a:solidFill>
                <a:latin typeface="Arial"/>
              </a:rPr>
              <a:t>(The European Commission can request documents from you 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neral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1440" y="1595160"/>
            <a:ext cx="89154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ommunication costs (postage, fax, telephone, mailing, etc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frastructure costs (rent, electricity, etc.) of the premises where the project is being carried out, in proportion to the use of these premises by the projec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office suppl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photocopi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he beneficiary will not be required to produce supporting documents for general costs</a:t>
            </a:r>
            <a:r>
              <a:rPr b="0" lang="bg-BG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Transfer of money to the part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nsfer of money to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ints gotten from som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ordination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3 points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team, monitoring group, tasks manag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 points per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ganisation of meeting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2 points per mee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cipation to a meeting (Lyon, Santander, Craiova, Wels, Bratislava, Prague, Heraklion, Grenoble, Tallinn)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1 point per particip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cipation to specific events representing EIE-Surveyor (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Brussels, Bucharest, Lviv, SEFI, TN forum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1 point per particip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claration of staff cost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0,5 point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Declaration of co-financing (travel and subsistence) (0,5 point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nsfer of money to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Declaration of co-financing (other costs) (0,5 point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Declaration of co-financing (equipment) (0,5 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claration publications + impact of the TN + dissemination actions (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0,2 point par a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reparations questionnaires Tuning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ests questionnaires Tuning+Ha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Filling questionnaires Tuning+Ha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articipation task1.3 Accred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Acteurs task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reparation Questionnaires Ha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articipation task 3.1 mono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nsfer of money to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in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Written agreement sig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hour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eclared and justif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Finantial declaration from the institutions (~30 % can be granted), declared and justif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nsfer of money to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igibl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clared Staff costs (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laration by the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+ Travel and subsistence (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laration by the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tomatic co-financing (difference between the authorized per-diem and the actual per-di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+ Other costs (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laration by the institutions (registration to conferences, other decla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laration by the institutions (administrative co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+ Equipment (damping /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mortisseme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ount of money (~30 % of the eligible costs) – the amount already transfered (generally reimbursement of travel and subsistence for the past meet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pologies for abs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. Melkebeek (BE, G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. Havlicek, J. Hrad, L. Lhotska (CZ, Prag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. Klett (DE, F.H. Ilmena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.V. Benlloch (ES, Vale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C Burguillo (ES, Vi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. Robert (FR, Nan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. Mylvaganam (NO, Telema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. Maciel-Barbosa (PT, Por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Administrative contact in N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ie-Lise Lemarq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, rue Jean Lam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4 519 Vandoeuvre les Nancy ce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x: +33 3 83 68.50.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ie-Lise.Lemarquis@esstin.uhp-nancy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dvancement state of the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ge of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at remains to be don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w to attribute points for staff costs repar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at will be the final outcome of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m (report, CD, website…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at should be done in order to finalise the final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hat are the deadlines for the various activities to be achiev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ho are the people involved, for which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semination action for the outcome (final product/result) of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12680" y="-27000"/>
            <a:ext cx="86997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49240" y="1341000"/>
            <a:ext cx="87789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1.1 Competences, TUNING (A. Ward, J. Jasene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 compe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compe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1.3. Methodology for accredi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D. Pasquet, F. Maciel-Barbosa, C. Burkl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2. Internet as educational resource for EIE edu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.L. Marzo-Lazaro, D. Deniz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3. Survey, BMD-process in Europe (M.J. Martins, G. Jerv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3.1. Bologna process in EIE at the bachelor, master and PhD lev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3.3 Portal on mobility, EIE curricula</a:t>
            </a:r>
            <a:r>
              <a:rPr b="0" lang="fr-FR" sz="2000" spc="-1" strike="noStrike">
                <a:solidFill>
                  <a:srgbClr val="b8022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H. Yahoui &amp; J. Ligus)</a:t>
            </a:r>
            <a:r>
              <a:rPr b="0" lang="fr-FR" sz="2000" spc="-1" strike="noStrike">
                <a:solidFill>
                  <a:srgbClr val="b80220"/>
                </a:solidFill>
                <a:latin typeface="Arial"/>
              </a:rPr>
              <a:t> (connection with B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0160" y="142416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802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80220"/>
                </a:solidFill>
                <a:latin typeface="Arial"/>
              </a:rPr>
              <a:t>TRANSVERSAL TASK: Portal for the various tasks (J. Lig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monitoring grou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sponsible: Hélène Frémont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osition: Juan Carlos Burguillo, Michal Chmela, Sanziana Vanatoru (to be update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ternal monitoring to organise and prep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ENERAL DISSEMINATION POLICY (J. Bars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95240" y="44280"/>
            <a:ext cx="8917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Maximum per d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84280" y="549360"/>
          <a:ext cx="8292960" cy="6207120"/>
        </p:xfrm>
        <a:graphic>
          <a:graphicData uri="http://schemas.openxmlformats.org/drawingml/2006/table">
            <a:tbl>
              <a:tblPr/>
              <a:tblGrid>
                <a:gridCol w="2435040"/>
                <a:gridCol w="1711440"/>
                <a:gridCol w="2073600"/>
                <a:gridCol w="2072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um in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um in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 Belg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Ice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K Den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 Liechtens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Germ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No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 Gre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 Bulg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 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 Czech R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 F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E Est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E Ire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 Cyp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V Lat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 Luxembou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T Lithu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L Nether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 Hun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Au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T Portu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 Po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 Fin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Swe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 Slov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 United King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 Slovak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 Tur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281240" y="2570040"/>
            <a:ext cx="2447640" cy="7304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riday 14th March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8.30 Welcome 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Room A007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9.00 EIE-Surveyor plenary sess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mphi Génie Civi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ancial asp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1.30 Official Welcoming ceremony 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Room A007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2.45 Lunch (offered by UJF)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14.30 EIE-Surveyor Working Group parallel session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 TASK 1 Tuning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 TASK 1.3 Accreditation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 TASK 2 Quality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 TASK 3 Bologna Observatory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 TASK 3.3 Portal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 Monitoring group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 Dissemination action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8.30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aturday 15th March 2008: EIE-Surveyor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8.30 Welcome 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Room A00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- 9.00 EIE-Surveyor Working Group parallel session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11.00 Coffee 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Room A00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- 11.30 EIE-Surveyor Working Group parallel session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12.30 Lunch (offered by UJF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- 14.00 EIE-Surveyor plenary session, feedbacks from working group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16.00 EAEEI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18.30 End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0.00 COMMON DINNE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information on the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ext mee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31800" y="2924280"/>
          <a:ext cx="8915400" cy="3170160"/>
        </p:xfrm>
        <a:graphic>
          <a:graphicData uri="http://schemas.openxmlformats.org/drawingml/2006/table">
            <a:tbl>
              <a:tblPr/>
              <a:tblGrid>
                <a:gridCol w="3208320"/>
                <a:gridCol w="2479680"/>
                <a:gridCol w="322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general mee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EEIE conf 2008, Tallinn (Estonia)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day 29th June 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st meeting, preparation of the Final Re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?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 August or September 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end of eligibility perio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ther 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w LLP thematic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LEI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ing Lifelong Learning for the Electrical and Information Engineer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ed Yahoui (Université Claude Bernard Lyon 1 coordin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eneral management of the 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00160" y="198360"/>
            <a:ext cx="7712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management of the money 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nancial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32000" y="1052640"/>
          <a:ext cx="8292960" cy="5246640"/>
        </p:xfrm>
        <a:graphic>
          <a:graphicData uri="http://schemas.openxmlformats.org/drawingml/2006/table">
            <a:tbl>
              <a:tblPr/>
              <a:tblGrid>
                <a:gridCol w="2732040"/>
                <a:gridCol w="1913040"/>
                <a:gridCol w="1574640"/>
                <a:gridCol w="2073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ved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ty gran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ntage of 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af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 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a. Travel and sub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b Equipment and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c Sub-contracting, consultancy and other external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 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d 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6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General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 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50 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 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00160" y="198360"/>
            <a:ext cx="7712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management of the money 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ctual budget (March 200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332000" y="1052640"/>
          <a:ext cx="8292960" cy="5246640"/>
        </p:xfrm>
        <a:graphic>
          <a:graphicData uri="http://schemas.openxmlformats.org/drawingml/2006/table">
            <a:tbl>
              <a:tblPr/>
              <a:tblGrid>
                <a:gridCol w="2732040"/>
                <a:gridCol w="1913040"/>
                <a:gridCol w="1574640"/>
                <a:gridCol w="2073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ved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esent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ercentage of approved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af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 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51268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84,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a. Travel and sub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93432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44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b Equipment and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641,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9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c Sub-contracting, consultancy and other external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 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9886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2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d 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6098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47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6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21058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9,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General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 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55227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50 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78897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00160" y="198360"/>
            <a:ext cx="7712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management of the money 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stimated budget (end of the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332000" y="1052640"/>
          <a:ext cx="8292960" cy="5383080"/>
        </p:xfrm>
        <a:graphic>
          <a:graphicData uri="http://schemas.openxmlformats.org/drawingml/2006/table">
            <a:tbl>
              <a:tblPr/>
              <a:tblGrid>
                <a:gridCol w="2732040"/>
                <a:gridCol w="1913040"/>
                <a:gridCol w="1574640"/>
                <a:gridCol w="2073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ved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esent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ercentage of approved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af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 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77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1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a. Travel and sub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,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b Equipment and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c Sub-contracting, consultancy and other external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 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d 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88,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6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53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,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General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 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7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84,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50 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 05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8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330 000</a:t>
                      </a: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(-120 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3:46:50Z</dcterms:created>
  <dc:creator>INPG</dc:creator>
  <dc:description/>
  <dc:language>en-US</dc:language>
  <cp:lastModifiedBy>perso</cp:lastModifiedBy>
  <cp:lastPrinted>2001-02-27T14:19:08Z</cp:lastPrinted>
  <dcterms:modified xsi:type="dcterms:W3CDTF">2008-05-21T13:04:35Z</dcterms:modified>
  <cp:revision>612</cp:revision>
  <dc:subject/>
  <dc:title>Aucun titre de diapositive</dc:title>
</cp:coreProperties>
</file>