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97B-8242-40BD-9A4C-B1BFFBA4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FE4-DF9B-43C5-A094-5AD7597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666-BC8B-43AC-ADD8-5E19ED48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880-F6C8-4F03-AD7E-F384616A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8C2-665A-4652-883D-487EAC5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552-DD69-4D09-A350-A855D54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B3E-1A98-4555-B5CB-D19F506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813-4E32-4D7A-8CD6-9E315BD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E34-8D67-4518-9319-68056F88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F6A-D1A7-4D24-B6AA-D28307C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8BA-EC63-4855-9C17-5FC0E5FE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1D6-EAB4-437D-ABBF-6CD31CA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DFB-3D91-4A11-9602-BF6735B4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hyperlink" Target="http://laraweb.fei.tuke.sk/questionnaires" TargetMode="External"/><Relationship Id="rId6" Type="http://schemas.openxmlformats.org/officeDocument/2006/relationships/hyperlink" Target="http://laraweb.fei.tuke.sk/questionnaires/statistics.php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WP Main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araweb.fei.tuke.sk/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atistics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araweb.fei.tuke.sk/questionnaires/statistic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tat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type of questionnaires S, A, GS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recommended to provide statistics according to the institution – based on the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60280"/>
            <a:ext cx="55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WP / transvers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statistics can be done on-line and dynamic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type of questionnaires S, A, GS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ag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260280"/>
            <a:ext cx="55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11280" y="1700280"/>
            <a:ext cx="3456000" cy="165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280" y="3429000"/>
            <a:ext cx="9018720" cy="313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47640" y="260280"/>
            <a:ext cx="604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ne example of gener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vailable Excel files exported and adapted according to the requirement from all available on-line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files: Excel files – powerfull tool for internal advanced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files will be not available publicly and protected by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260280"/>
            <a:ext cx="55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1.1 End of May – end of data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June – end of data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 No data on-line, almost already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3.1 B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monographs - end of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.3 End of June – end of data gath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260280"/>
            <a:ext cx="604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signed deadlines from pr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ordinator has acces into data on-line, ready for printing Tony, Daniel, Ha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odinator should exactly send a email, when to export data in already agreed and teste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ood if you ask for actual temporally excel files, independently – please contact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T3.3 Hamed will prepare what kind of statistics should be realised in the frame of this task fro exported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60280"/>
            <a:ext cx="604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ome commo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WP will still be alive – getting for personal difference between importance and student actu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feedbacks from data we like to put on the portal – main results – decided put into local portal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260280"/>
            <a:ext cx="604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ome commo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versal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debate, design way on-line, dynamic updating required data in por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hould consider hierarchic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updated references, if server is moved from one place to another, or another D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of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design of the web portals – paper/poster / research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answers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ext thematic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is done in CMS and DMS pres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ap of the link of existing web modules, some work already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260280"/>
            <a:ext cx="604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uestionnaire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ome commo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85800" y="1628640"/>
            <a:ext cx="8062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X fo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40:17Z</dcterms:created>
  <dc:creator>Maria João Martins</dc:creator>
  <dc:description/>
  <dc:language>en-US</dc:language>
  <cp:lastModifiedBy>MDJTABLET</cp:lastModifiedBy>
  <dcterms:modified xsi:type="dcterms:W3CDTF">2008-03-19T06:31:45Z</dcterms:modified>
  <cp:revision>63</cp:revision>
  <dc:subject/>
  <dc:title>Task 3.1</dc:title>
</cp:coreProperties>
</file>