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DEF-C141-4508-86A1-88FBF2C3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81D-A682-4FB1-8974-E0BC37D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ED0-E43C-48D9-8EB2-1C5ED511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D66-A828-4E86-95A9-4A5D4C71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DC9-6EB5-4A1C-A027-8858CE72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762-3852-41AA-BE1C-4CFD21AA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83A-B2C7-4A75-B992-06C29429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8FF-A93D-4F6B-8AF6-825DA13F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4D8-EE9B-4155-9B41-9AAC856B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743-BFBD-4CA0-A4DF-0349302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B0B-AF39-474B-80B1-FFB706E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E4E-4403-450D-9615-84FEB46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aklion, Crete- Dec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DA6D-61D6-4C7A-B3A7-7A0FD014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ask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pdate of Mon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pdate of Doctor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 3 (Monograph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ologna Proc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l outcomes, « Monograph on EIE in Europe» and « Monograph on PhD studies in EIE in Europ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hape : repor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CD, Book, PDF on the web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nline vers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ynamic content with possibilities to upd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ategy, Targets of this final outcome: Ministries for Higher Education, universities in Europe, universities outside Europe, 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e of availability of th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inted vers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ugus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lementation of th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rect exchange of data (no use of website question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nline version, based on received information with possibility to update “on-f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ask 3 (200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050840"/>
            <a:ext cx="8135640" cy="505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2040" y="457992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Oliv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Micha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640" y="2421000"/>
            <a:ext cx="1110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Vict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TBD (SEF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1700280"/>
            <a:ext cx="289080" cy="3097080"/>
          </a:xfrm>
          <a:custGeom>
            <a:avLst/>
            <a:gdLst>
              <a:gd name="textAreaLeft" fmla="*/ 0 w 289080"/>
              <a:gd name="textAreaRight" fmla="*/ 104400 w 28908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97640" y="2800440"/>
            <a:ext cx="7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276640"/>
            <a:ext cx="719280" cy="24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4581360"/>
            <a:ext cx="719280" cy="24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3068640"/>
            <a:ext cx="28065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Pepe and TG3 coordina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21120" y="4618080"/>
            <a:ext cx="2559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(Maria Joao and TG3 coordin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6680" y="2924280"/>
            <a:ext cx="1458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G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sk 3 – New 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 new 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B&amp;M: SEFI, Victor de Kos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: OIivier,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neral summary of the situation of B&amp;M and PhDs  - Pepe and M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issemination over the web (Gert), preparation of the versions for the commission (CD, book) – all task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dd national contact points for each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nformation about study programmes and courses offered in English (specific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e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of double dipl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imestamping of th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ational contacts for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ologna-process (T3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: K. 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V : R. Catth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W : J. Bar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G : D. Dimi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Y : D. De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Z :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. Lhot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: M. Hoffmann &amp; H. R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K: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E: G. Jer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6960" y="1566720"/>
            <a:ext cx="40546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: J. Benlloch and A. Sua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: J. S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 : Club E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: G. Tsirigotis and G. Papadoura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U: C. C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: C. Burk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: I. Atli Benedikt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: C. P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T: R. Kriv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ational contacts for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ologna-process (T3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 : JM Thi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V: I. Slaid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T: A. L. Ga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L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: S. Mylvag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: W. G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T: F. Maciel-Barbosa and MJ Mart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1566720"/>
            <a:ext cx="40546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: D. Pop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: S. Stefa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: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K: J. Jas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: D. Deniz, B. Karaog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A: A. Zynovch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K: T. Ward and  M. Dip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ask 3 (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130960" cy="505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5840" y="4816440"/>
            <a:ext cx="68612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ublishing in the WEB (continious edit possi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56160" y="1468440"/>
            <a:ext cx="0" cy="446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94400" y="1509840"/>
            <a:ext cx="822240" cy="6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2254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ff0000"/>
                </a:solidFill>
                <a:latin typeface="Arial"/>
              </a:rPr>
              <a:t>Deadline for fixing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ff0000"/>
                </a:solidFill>
                <a:latin typeface="Arial"/>
              </a:rPr>
              <a:t>to be prepared for th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21000" y="5851440"/>
            <a:ext cx="7779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Update of Mon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eived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Update of Doctor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00:25Z</dcterms:created>
  <dc:creator>Maria João Martins</dc:creator>
  <dc:description/>
  <dc:language>en-US</dc:language>
  <cp:lastModifiedBy>Gert Jervan</cp:lastModifiedBy>
  <dcterms:modified xsi:type="dcterms:W3CDTF">2007-11-30T10:58:25Z</dcterms:modified>
  <cp:revision>6</cp:revision>
  <dc:subject/>
  <dc:title>Task 3.3</dc:title>
</cp:coreProperties>
</file>