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095-FE23-4038-A7D3-9716ACC0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EAE-CAE8-475F-8712-B2B52121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E04E-C845-4CA2-B293-B8A3CDC2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8E83-5BB8-4F4E-82BA-755733DE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04A-D20E-4A17-881E-41937E16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738-7EA7-4353-B352-9D569119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6F4-391D-48BF-9984-CE216A87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5D9-4C46-4649-B37B-A9545525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25F-C7C3-474A-B82A-76BCAB75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BCD8-2228-41EF-958B-5CBA6A8D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E06-FB29-4B11-916C-193C82D7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AD3-36F2-407E-BFE4-8D84F35E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8030-ACBA-4A45-902B-930D6A39C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uning 1.1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ony, Josef, Jan, Olivier, Rado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ction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urrent stage of task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utstanding work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n for final yea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nal outpu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issemination strateg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rganization of remaining work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urrent Stage of Task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arget (per partner)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200 Student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20 Employer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 Coordinato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50 Graduat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00 Partners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20,000 Student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2, 000 Employer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5,000 Graduat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urrently: N = 2,438 !!!!!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utstanding work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view current sample by Countr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mail all partners to chase respon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pecific email to Country Coordinator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xt deadline - end January 2008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ort, collate &amp; merge data 18th Fe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itial Analysis 14th March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sentation @ Grenob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nal report Prepara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issemina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lan for Final Year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itial data analysis &amp; presenta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rch 08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nal report initial outlin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anuary 08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vision &amp; finalize repor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nd July 08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ublish final repor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nd August 08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inal Repor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per report - monograph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eb vers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uestionnaire analysi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scriptive Analysi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eneric Competenc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ecific Competenc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nguage Studi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mparative Analysi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logn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ith other disciplines analysed using Tuning methodology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514600"/>
            <a:ext cx="8382240" cy="76320"/>
          </a:xfrm>
          <a:prstGeom prst="rect">
            <a:avLst/>
          </a:prstGeom>
          <a:gradFill rotWithShape="0">
            <a:gsLst>
              <a:gs pos="0">
                <a:srgbClr val="fff800"/>
              </a:gs>
              <a:gs pos="50000">
                <a:srgbClr val="ff0005"/>
              </a:gs>
              <a:gs pos="100000">
                <a:srgbClr val="fff8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5880" y="3048120"/>
            <a:ext cx="243864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isseminat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ferenc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AEEI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EFI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AIE (European Association for International Education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ES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ournal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EEE Educat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nternational / European Journal of Engineering Educat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0:41:38Z</dcterms:created>
  <dc:creator>Tony Ward</dc:creator>
  <dc:description/>
  <dc:language>en-US</dc:language>
  <cp:lastModifiedBy>Tony Ward</cp:lastModifiedBy>
  <dcterms:modified xsi:type="dcterms:W3CDTF">2007-11-30T13:53:20Z</dcterms:modified>
  <cp:revision>6</cp:revision>
  <dc:subject/>
  <dc:title>Tuning 1.1</dc:title>
</cp:coreProperties>
</file>