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16A7-144F-4B02-A983-DB5AE8C10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469C-2697-4823-A40F-4971E0CF2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981F-07E5-4286-8509-44A2147E3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8F0C-B680-4D68-99DF-54062AAC7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028C-9FC1-4D5B-B9C1-4EEFEB7EC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11CF-052F-4A92-AFBE-71D682ACB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D9B8-6BD5-4F5E-89F9-8F5B34A9D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8F1F-1BA8-475F-8698-D0DD59FED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8BFF-7B2D-4A54-9E62-0A68E830F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1AE8-6BEB-4324-B384-986658A5C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5A67-4A63-4E47-B0F1-68FA568CD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4726-8AD9-45D8-919E-877EBCEB7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F5EF6-406C-47CF-9B4B-95069A670D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Surveyor managing team meeting</a:t>
            </a:r>
            <a:br>
              <a:rPr sz="3200"/>
            </a:b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Heraklion November 30th,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22096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Constitution of the working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32000" y="2997360"/>
            <a:ext cx="6705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Maciel Barbosa</a:t>
            </a:r>
            <a:r>
              <a:rPr b="0" lang="fr-FR" sz="2400" spc="-1" strike="noStrike">
                <a:solidFill>
                  <a:srgbClr val="008000"/>
                </a:solidFill>
                <a:latin typeface="Times New Roman"/>
              </a:rPr>
              <a:t> (PT)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Cyril Burkley</a:t>
            </a:r>
            <a:r>
              <a:rPr b="0" lang="fr-FR" sz="2400" spc="-1" strike="noStrike">
                <a:solidFill>
                  <a:srgbClr val="008000"/>
                </a:solidFill>
                <a:latin typeface="Times New Roman"/>
              </a:rPr>
              <a:t> (I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Michael Hoffmann</a:t>
            </a:r>
            <a:r>
              <a:rPr b="0" lang="fr-FR" sz="2400" spc="-1" strike="noStrike">
                <a:solidFill>
                  <a:srgbClr val="008000"/>
                </a:solidFill>
                <a:latin typeface="Times New Roman"/>
              </a:rPr>
              <a:t> (DE) </a:t>
            </a:r>
            <a:br>
              <a:rPr sz="2400"/>
            </a:br>
            <a:r>
              <a:rPr b="0" lang="fr-FR" sz="2400" spc="-1" strike="noStrike">
                <a:solidFill>
                  <a:srgbClr val="008000"/>
                </a:solidFill>
                <a:latin typeface="Times New Roman"/>
              </a:rPr>
              <a:t>Romanas Krivickas (LT)</a:t>
            </a:r>
            <a:br>
              <a:rPr sz="2400"/>
            </a:br>
            <a:r>
              <a:rPr b="0" lang="fr-FR" sz="2400" spc="-1" strike="noStrike">
                <a:solidFill>
                  <a:srgbClr val="008000"/>
                </a:solidFill>
                <a:latin typeface="Times New Roman"/>
              </a:rPr>
              <a:t>Albert Leone-Ganado (MT)</a:t>
            </a:r>
            <a:br>
              <a:rPr sz="2400"/>
            </a:br>
            <a:r>
              <a:rPr b="0" lang="fr-FR" sz="2400" spc="-1" strike="noStrike">
                <a:solidFill>
                  <a:srgbClr val="008000"/>
                </a:solidFill>
                <a:latin typeface="Times New Roman"/>
              </a:rPr>
              <a:t>Saba Mylvaganam (NO)</a:t>
            </a:r>
            <a:br>
              <a:rPr sz="2400"/>
            </a:br>
            <a:r>
              <a:rPr b="0" lang="fr-FR" sz="2400" spc="-1" strike="noStrike">
                <a:solidFill>
                  <a:srgbClr val="008000"/>
                </a:solidFill>
                <a:latin typeface="Times New Roman"/>
              </a:rPr>
              <a:t>George Papadourakis (GR)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Daniel Pasquet</a:t>
            </a:r>
            <a:r>
              <a:rPr b="0" lang="fr-FR" sz="2400" spc="-1" strike="noStrike">
                <a:solidFill>
                  <a:srgbClr val="008000"/>
                </a:solidFill>
                <a:latin typeface="Times New Roman"/>
              </a:rPr>
              <a:t> (FR)</a:t>
            </a:r>
            <a:br>
              <a:rPr sz="2400"/>
            </a:br>
            <a:r>
              <a:rPr b="0" lang="fr-FR" sz="2400" spc="-1" strike="noStrike">
                <a:solidFill>
                  <a:srgbClr val="008000"/>
                </a:solidFill>
                <a:latin typeface="Times New Roman"/>
              </a:rPr>
              <a:t>Georgios Tsirigoti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8000"/>
                </a:solidFill>
                <a:latin typeface="Times New Roman"/>
              </a:rPr>
              <a:t>(G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urveyor managing team meeting</a:t>
            </a:r>
            <a:br>
              <a:rPr sz="3200"/>
            </a:b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Heraklion November 30th,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124000" y="148428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fficulties -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1280" y="1989000"/>
            <a:ext cx="80643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n some countries there is not yet any accredi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ransient from program accreditation to a system accreditation in some countr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Who pays the expenses (government, university, other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Master programs to be accredited in every countr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s industry placement compulsory in every countr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Must ECTS criteria be completed to assess methodology and content in order to produce comparable accreditation procedur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urveyor managing team meeting</a:t>
            </a:r>
            <a:br>
              <a:rPr sz="3200"/>
            </a:b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Heraklion November 30th,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24000" y="148428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remains to be d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68360" y="1989000"/>
            <a:ext cx="82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nstallation of the data base including the answers of the questionnai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valuation of the questionnai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ropositions for harmonization of accreditation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Surveyor managing team meeting</a:t>
            </a:r>
            <a:br>
              <a:rPr sz="3200"/>
            </a:b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Heraklion November 30th,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2096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Different t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63640" y="2781360"/>
            <a:ext cx="6705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Writing the questionnaire:</a:t>
            </a:r>
            <a:r>
              <a:rPr b="0" lang="fr-FR" sz="2400" spc="-1" strike="noStrike">
                <a:solidFill>
                  <a:srgbClr val="008000"/>
                </a:solidFill>
                <a:latin typeface="Times New Roman"/>
              </a:rPr>
              <a:t> all the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Sending the questionnaire:</a:t>
            </a:r>
            <a:r>
              <a:rPr b="0" lang="fr-FR" sz="2400" spc="-1" strike="noStrike">
                <a:solidFill>
                  <a:srgbClr val="008000"/>
                </a:solidFill>
                <a:latin typeface="Times New Roman"/>
              </a:rPr>
              <a:t> D. Pasqu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Receiving the questionnaire:</a:t>
            </a:r>
            <a:r>
              <a:rPr b="0" lang="fr-FR" sz="2400" spc="-1" strike="noStrike">
                <a:solidFill>
                  <a:srgbClr val="008000"/>
                </a:solidFill>
                <a:latin typeface="Times New Roman"/>
              </a:rPr>
              <a:t> M. Barbo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Statistics:</a:t>
            </a:r>
            <a:r>
              <a:rPr b="0" lang="fr-FR" sz="2400" spc="-1" strike="noStrike">
                <a:solidFill>
                  <a:srgbClr val="008000"/>
                </a:solidFill>
                <a:latin typeface="Times New Roman"/>
              </a:rPr>
              <a:t> G. Papadourak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Surveyor managing team meeting</a:t>
            </a:r>
            <a:br>
              <a:rPr sz="3200"/>
            </a:b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Heraklion November 30th,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22096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Disse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47640" y="3213000"/>
            <a:ext cx="6705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Communication at Prague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Statistical results of the questionn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Final re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Surveyor managing team meeting</a:t>
            </a:r>
            <a:br>
              <a:rPr sz="3200"/>
            </a:b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Heraklion November 30th,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22096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Answers to the questionn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763640" y="2781360"/>
            <a:ext cx="6705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22 received from 18 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Some countries: several accreditation 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(DE: 6, FR: 3,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Surveyor managing team meeting</a:t>
            </a:r>
            <a:br>
              <a:rPr sz="3200"/>
            </a:b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Heraklion November 30th,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2209680"/>
            <a:ext cx="807732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 accreditation 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Times New Roman"/>
              </a:rPr>
              <a:t>Is the accreditation compulsory to deliver engineering degrees in EIE?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64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Times New Roman"/>
              </a:rPr>
              <a:t>Is the accreditation given by</a:t>
            </a:r>
            <a:r>
              <a:rPr b="1" lang="en-GB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Government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64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University (ies)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5%  (several possibl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professional body (ies)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5%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independent agency 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4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Times New Roman"/>
              </a:rPr>
              <a:t>Is the accreditation given to</a:t>
            </a:r>
            <a:r>
              <a:rPr b="1" lang="en-GB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a programme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73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a department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23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the whole institution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56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Times New Roman"/>
              </a:rPr>
              <a:t>The accreditation body is constituted by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faculty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6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employers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4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engineers in industry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14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mbers of accreditation body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59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14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Surveyor managing team meeting</a:t>
            </a:r>
            <a:br>
              <a:rPr sz="3200"/>
            </a:b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Heraklion November 30th,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2209680"/>
            <a:ext cx="8077320" cy="30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 accreditation 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Times New Roman"/>
              </a:rPr>
              <a:t>Is the accreditation body itself subject to an accreditation or validation process?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Yes 5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Times New Roman"/>
              </a:rPr>
              <a:t>Are there links with other accreditation bodies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international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3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European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5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often do not know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Times New Roman"/>
              </a:rPr>
              <a:t>Does the accreditation include quality assurance measure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Yes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77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416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3300"/>
                </a:solidFill>
                <a:latin typeface="Times New Roman"/>
              </a:rPr>
              <a:t>Surveyor managing team meeting </a:t>
            </a:r>
            <a:br>
              <a:rPr sz="2800"/>
            </a:br>
            <a:r>
              <a:rPr b="1" lang="fr-FR" sz="2800" spc="-1" strike="noStrike">
                <a:solidFill>
                  <a:srgbClr val="ff3300"/>
                </a:solidFill>
                <a:latin typeface="Times New Roman"/>
              </a:rPr>
              <a:t>Heraklion November 30th, 200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35280" y="105264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2.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324000" y="1557360"/>
          <a:ext cx="8351640" cy="4508640"/>
        </p:xfrm>
        <a:graphic>
          <a:graphicData uri="http://schemas.openxmlformats.org/drawingml/2006/table">
            <a:tbl>
              <a:tblPr/>
              <a:tblGrid>
                <a:gridCol w="2984400"/>
                <a:gridCol w="753840"/>
                <a:gridCol w="746280"/>
                <a:gridCol w="2119320"/>
                <a:gridCol w="174780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s documentation provided in advanc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valuated during the visi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rricu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udent examination script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amination paper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udents performanc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ademic staff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ruitmen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earch activiti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mployment of gradua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llaboration with industr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ciliti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ject reports/thesi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Surveyor managing team meeting</a:t>
            </a:r>
            <a:br>
              <a:rPr sz="3200"/>
            </a:b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Heraklion November 30th,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24000" y="184464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3. Evaluation vis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2276640"/>
            <a:ext cx="748836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Times New Roman"/>
              </a:rPr>
              <a:t>What is the frequency of the visits?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verage 5 ye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Times New Roman"/>
              </a:rPr>
              <a:t>What is the size of the visiting panel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verage 4.3 pers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Times New Roman"/>
              </a:rPr>
              <a:t>How is it composed of?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cademics:  86%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industrial:  55%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Times New Roman"/>
              </a:rPr>
              <a:t>What is the duration of the visit?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verage 2.3 d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Times New Roman"/>
              </a:rPr>
              <a:t>Whom do the panel meet during their visit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students  91%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cademic staff 95%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technical staff  5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dministrative staff  82%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employers  36%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graduates  41%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Surveyor managing team meeting</a:t>
            </a:r>
            <a:br>
              <a:rPr sz="3200"/>
            </a:b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Heraklion November 30th,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124000" y="184464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Conclu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11280" y="2852640"/>
            <a:ext cx="8064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Times New Roman"/>
              </a:rPr>
              <a:t>To whom do the review panel report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government  50%    university  32%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 independent agency   41%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Times New Roman"/>
              </a:rPr>
              <a:t>Who makes the final decision?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government  55%    independent agency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36%  no answer 9%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Times New Roman"/>
              </a:rPr>
              <a:t>What are the different possible decisions?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full accreditation 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91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ccreditation for reduced period of time 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82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no accreditation 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8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dditional non-compulsory recommendations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41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6T12:39:06Z</dcterms:created>
  <dc:creator>pasquet</dc:creator>
  <dc:description/>
  <dc:language>en-US</dc:language>
  <cp:lastModifiedBy>user</cp:lastModifiedBy>
  <dcterms:modified xsi:type="dcterms:W3CDTF">2007-11-30T11:01:28Z</dcterms:modified>
  <cp:revision>32</cp:revision>
  <dc:subject/>
  <dc:title>Surveyor working group meeting Craiova June 3rd, 2006</dc:title>
</cp:coreProperties>
</file>