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B69-4E28-4C12-8BB7-A8DB7915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283-DDDE-4CBC-9481-8FD96401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BAF-C5D2-4E42-BFAC-A57C1301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155-5AE4-4F4C-BD0E-B8FCE901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83B-E02B-4788-AA5D-C4DB7C03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E60-BDC2-4F1D-804E-C64F6BA8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FCC-2C68-43CE-AFF7-24FA5CB4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B34-8B62-429C-895E-5C659220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CA2-29A9-4DEC-9099-563A0413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2DC-9EA3-428E-9CB8-ABC84A8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A9F-47A4-45B8-92E7-5CD32526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855-0151-429E-9085-C9F69E1C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4D9D-2BFA-4245-BF7A-0ED78F463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20464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ηση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Joseph Bar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É.P.L. (ex-SUALEM… since Sep 2007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οργο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orgos Papadoura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Ε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itis - Irak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- Orga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ountry : 1 Resp. for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as : Giorgos Tsirigotis, Kavala T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ia : Bachivarov, Bucharest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nd :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were : to be done for 31/12/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- I/O Strategy (see spreadshe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very country : stakeholder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every EIE-S T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 we dissemin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//,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 we g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it, him, th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a graphic cha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HEI may provid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paper, CD,… cos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onference (end-Sep 2008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xl ? Why ? Elsewhere ? Impact ? Cos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MUS Accompanying Measure for 1 ye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: Feb-Ma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ees, free or pay for resul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– Thank You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me your opinion or any further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me asap your PPTs for spreadsheet fulfilment (detailed resul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me national disseminators name, if you m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me or having them sending me, details (unwritteable in the spreadsheet…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form will be prepa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– Milestone : GRENO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tailed planning until Grenoble and after will be provided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2:27:27Z</dcterms:created>
  <dc:creator>Prof. Joseph Barsics</dc:creator>
  <dc:description/>
  <dc:language>en-US</dc:language>
  <cp:lastModifiedBy>Prof. Joseph Barsics</cp:lastModifiedBy>
  <dcterms:modified xsi:type="dcterms:W3CDTF">2007-12-01T13:17:45Z</dcterms:modified>
  <cp:revision>2</cp:revision>
  <dc:subject/>
  <dc:title>Diapositive 1</dc:title>
</cp:coreProperties>
</file>