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3C25-BD9C-49CD-B687-D3B979DD5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C18D-5277-4E3F-B4BD-8BC756EEB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40CD-AC03-4964-945A-7EB9E1C7D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1C07-7875-48F2-A5A1-2E2A764E0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D40B-010A-42CC-ADEC-FD59E4DC1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8F31-2E23-435B-B754-04E1DBF57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5681-54F0-47EE-829A-5B754E8D6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9294-C092-45CE-BDEC-9D6D3869F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471E-A96D-4D7C-A1D6-BC1EC4BE6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A49A-1B2E-4BE6-82CC-7F74D4041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392-5DCA-422D-9C56-BF71CFEDE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EF68-7F63-4850-B42D-CDC553FD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3480" y="6378480"/>
            <a:ext cx="70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ing Team Meeting, Heraklion (Greece), 30th November – 1st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9BBB-69AC-46B2-B03A-A2B4C5BA2E17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FF7-5668-4284-AD13-26B909EDE717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219240" y="625644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25644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103400" y="6273720"/>
          <a:ext cx="68112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3400" y="6273720"/>
                    <a:ext cx="681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anaging team Meeting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Marc THIRIE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iversité Joseph Fourier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eraklion (Greec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0th November – 1st Dec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Ευχαριστώ, Γιώργος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aspects (practi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gran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vel and subsistenc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ation of subsistence costs: 1 per diem / night + ½ per diem for travel (NOT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sbsistence costs eligible for external experts coming from outside Socrates countries (but not Travel co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avel and subsistence costs for students participating to the plenary meeting are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-financing for  Travel and subsistence »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nd « other cost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claration of costs (travel, accomodation) as co-financing of your institution for « travel and subsistence 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ther travel and subsistence (for instance days for your participation to the EAEEIE co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claration of costs (registration) as co-financing of your institution for « other costs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: registration for the EAEEI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cc"/>
                </a:solidFill>
                <a:latin typeface="Arial"/>
              </a:rPr>
              <a:t>TAKE CARE 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nly in the eligible zone (EU27 + NO + IS + FL + 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Staff costs – 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staff costs related to all persons involved in the project by institution can be charged into the project, according to the time effectively spent =&gt;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BE REALIST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osts should be calculated on the hourly, daily, monthly gross cost (salaire brut) multiplied by the number of hours, days or months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beneficiary and partners must keep full and accur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onnel costs should not exceed the norm for the labour market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eer costs (bénévoles) not eligible – real co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rdware and equipments, when &gt; 1000 €uro are submitted to depreciation (33.33 % per ann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justed to the percentage of use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eces of equipment purchased before the project period are not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 aware of internal rules of depreciation, if different from the Commission’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cc"/>
                </a:solidFill>
                <a:latin typeface="Arial"/>
              </a:rPr>
              <a:t>BILL OF A COMPUTER &gt; 1000 €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around the beginning of the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récupérer de l’equipement, il faut que les collègues apportent une facture d’ordino dans la période éligible (début du projet) =&gt; on mettra de l’amor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gotten from som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3 point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team, monitoring group, tasks manag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 points pe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of meeting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2 points per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a meeting (Lyon, Santander, Craiova, Wels, Bratislava, Prague, Heraklion, Grenoble, Tallinn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specific events representing EIE-Surveyor (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ussels, Bucharest, Lviv, SEFI, TN foru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laration of staff cost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0,5 point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claration of co-financing (travel and subs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-financing (other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-financing (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laration publications + impact of the TN + dissemination action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0,2 point par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réparations questionnaires Tuning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Tests questionnaires Tuning+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mplissage questionnaires Tuning+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rticipation task1.3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Acteurs task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réparation Questionnaires 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rticipation task 3.1 mon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ritten agreement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ata update on the web-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clared and ju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antial declaration from the institutions (~30 % can be granted), declared en ju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igi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ed Staff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Travel and subsistence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matic co-financing (difference between the authorized per-diem and the actual per-di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Other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registration to conferences, other decla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administrative co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Equipment (damping 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mortisse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ount of money (~30 % of the eligible costs) – the amount already transfered (generally reimbursement of travel and subsistence for the past meet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Administrative contact in 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 Lemar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, rue Jean La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4 519 Vandoeuvre les Nancy ce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x: +33 3 83 68.5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.Lemarquis@esstin.uhp-nancy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ologies for abs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 Burkley (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. Fremont (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. Mrozek (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alance on the tasks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or each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ge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at remains to be do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tion plan for the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semination action for the outcome (final product/result)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 (1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IDAY 30th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00 Welcoming sess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. GENERAL SESSION ON THE PROJECT (JM Thiriet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15 General information on the project, feedback from the progress repor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30 New websi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45 Leaflet, strategy of disseminat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0.15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0.30 General management of the mone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2.0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3.3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. PARALLEL SESSIONS (each task + dissemination + contacts with industry + monitoring group + BEST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6.0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ON SESSION: FEEDBACK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6.30 TASK 1.1 : TUNING (Feedbacks from the questionnaires (students, academics, employers, graduate), preparation of the final outcome (analysis/synthesis of the questionnaires, format of the final outcome, dissemination strategy, organisation of the work)) (T. Ward, J. Jasenek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7.30 TASK 1.3 : Accreditation (Feedbacks from the questionnaires, preparation of the final outcome (analysis/synthesis of the questionnaires, format of the final outcome, dissemination strategy, organisation of the work)) (D. Pasquet, C. Burkley, F. Maciel-Barb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 (2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TURDAY 1st Decem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9.00 TASK 2 : Quality (Feedbacks from the surveys, preparation of the final outcome (analysis/synthesis of the surveys, format of the final outcome, dissemination strategy, organisation of the work)) (J.L. Marzo-Lazaro, D. Deniz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00 TASK 3.1 : Bologna-Process Observatory (Feedbacks from the surveys, preparation of the final outcome (analysis/synthesis of the surveys, format of the final outcome, dissemination strategy, organisation of the work)) (MJ Martins, JM Thiriet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30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45 TASK 3.3: Mobility (Feedbacks from the questionnaires, preparation of the final outcome (analysis/synthesis of the questionnaires, format of the final outcome, dissemination strategy, organisation of the work)) (H. Yahoui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1.30 Contacts with industry: Z. Mrozek (Excused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2.00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3.30 Dissemination action: J. Barsic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4.15 Partnership with BEST, organisation of a BaCo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5.00 Organisation of the external monitoring: J.C. Burguillo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5.45 Paus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6.15 General Discussion and Synthesis: (Final synthesis, global organisation of the work for the last year) (JM Thiriet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7.00 Feedback from the monitoring group (J.C. Burguillo &amp; al.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7.30 End of the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yond the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AEEIE (Jan Lig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AEEIE’08 Tallinn (Gert Jerv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TN project 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stian Perra, Hamed Yahoui, Jan Ligus, Maria Joao Martins, Michael Hoffman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, meeting in Lisboa 13th Octo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information on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bruary 2008, General meeting for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adline for new projects: 29th Febr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day information in the Commission: 18 and 21 Jan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31800" y="1566720"/>
          <a:ext cx="8915400" cy="4505400"/>
        </p:xfrm>
        <a:graphic>
          <a:graphicData uri="http://schemas.openxmlformats.org/drawingml/2006/table">
            <a:tbl>
              <a:tblPr/>
              <a:tblGrid>
                <a:gridCol w="3208320"/>
                <a:gridCol w="2481480"/>
                <a:gridCol w="32256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noble (Fr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March =&gt; EAEEIE PC meeting and GA Counc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-15 March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int event assessment with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defined, 3r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general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EEIE conf 2008, Tallinn (Estonia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day 29th June 2008 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t meeting, preparation of the Final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 August or September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nd of eligibility perio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information on the project: Next mee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eedback from the 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0160" y="4005360"/>
          <a:ext cx="972180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4005360"/>
                    <a:ext cx="972180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00160" y="1219320"/>
          <a:ext cx="9621720" cy="22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60" y="1219320"/>
                    <a:ext cx="962172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00160" y="5516640"/>
            <a:ext cx="9621720" cy="13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7-12-21T12:20:30Z</dcterms:modified>
  <cp:revision>571</cp:revision>
  <dc:subject/>
  <dc:title>Aucun titre de diapositive</dc:title>
</cp:coreProperties>
</file>