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D9E4-E9FB-494B-8C03-8E0B80038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4F4-A742-4F43-9E9B-437A9E7C5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997B-54D4-4FFA-B80E-A29FBA978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98FF-B26F-4D15-9330-33F3571E9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7FAF-9491-4D75-AE20-EDA546A82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EA0E-1324-4920-96CE-5F5CFC810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5BF3-767F-451A-8C03-D3CCD7B95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AB5B-2DD7-4C96-8849-46870ED7E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B03F-0DB8-4B07-8687-981E9FE06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CE37-035D-44BB-B117-21E2B3378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5897-F837-4FA4-8277-BACC03A27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1306-C512-4911-B7CF-EFFE79D81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6480" y="6553080"/>
            <a:ext cx="17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ta:29 11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975-1707-4E22-9F1D-5320A5BF6DC2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B66-BF3F-476B-84B8-A4A09098A093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8821800" y="630072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21800" y="630072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148600" y="6318360"/>
          <a:ext cx="68112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6318360"/>
                    <a:ext cx="681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714320"/>
            <a:ext cx="87915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3480" y="2092320"/>
            <a:ext cx="95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pping the state of the art on Master degree in the spirit of Bologna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International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00" y="3295800"/>
            <a:ext cx="901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ake a survey on the organization of mobility at  university level in E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75000"/>
            <a:ext cx="90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gather information about mobility but from the student point of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360" y="1608120"/>
            <a:ext cx="29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764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EIE surveyor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59120"/>
            <a:ext cx="75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the mobility contact at university level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87640"/>
            <a:ext cx="65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the mobility at student level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13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3280" y="814320"/>
            <a:ext cx="41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70120" y="4687920"/>
            <a:ext cx="41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2960" y="5334120"/>
            <a:ext cx="906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ation: Sefi conference and EAEE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per document about good practice on mobility and existing International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 a flyer of the result to all International Department of ou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yh</cp:lastModifiedBy>
  <cp:lastPrinted>2001-02-27T14:19:08Z</cp:lastPrinted>
  <dcterms:modified xsi:type="dcterms:W3CDTF">2007-11-30T15:23:55Z</dcterms:modified>
  <cp:revision>552</cp:revision>
  <dc:subject/>
  <dc:title>Aucun titre de diapositive</dc:title>
</cp:coreProperties>
</file>