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5CE-9AD6-4989-A6CC-7D4BD2B6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950-46E5-411C-B343-E4CF1E08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80C-DE16-428D-A1E3-5359DF7F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BE5-0D4F-4C27-938F-73E3C168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8DE3-E15C-4E00-A94B-E63FC17E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C6ED-DF14-4FB4-A136-28CE97E1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0EE3-F4DB-4435-922F-92DD828C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2BEF-8F8B-4CA8-8790-43F76993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536B-F796-42FB-8470-E5E0CB33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3C6E-E4FD-441C-8C8F-C9BC05B2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2E0D-F086-4F3C-A243-CE230F24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5FA-8276-4A99-BE45-C6C03835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6A34-DBA9-42C2-A51B-D32650A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8DEB-2C66-4C8E-B7F8-578C971D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9255-B5A4-4978-B53B-F37B6149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FD12-8360-4647-9000-9991A5CC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7940-305C-4988-A127-5E432227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A88-B228-4848-A3C4-8CD9CF62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856-0FE9-4088-8ABD-B427E681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58A-5635-44D9-8F9F-02F38C96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76C-591E-4DA8-9E60-D8AAE658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9AD-9C10-4220-AA19-B096DFDB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4E5-4035-4138-8C8C-A4EF1B0D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6A7-ADD3-46A4-96EB-B93D6AF3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8E0C-F3EE-47B3-9702-411BF2EF36D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3E0B-5B45-4958-B2AF-EE15E26175C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nitoring Group Work</a:t>
            </a: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eraklion, November 2007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élène FRÉMONT  (Université de Bordeaux, Fran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an Carlos BURGUILLO-RIAL (Universidade de Vigo, Spai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ziana VANATORU (Board of European Students of Technolog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hal CHMELA (Brno University of Technology, Czech Rep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ovide feedback at the different tasks respons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teract with the Managing Bo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upervise the project until January 2007 (progress repor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ovid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struct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ri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write a document for the Progress Re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4F8-6203-4B75-8A8F-E1844CC434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itoring Group</a:t>
            </a: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ing Feed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, facilities, cultural and culinary organization has been very goo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We thank Prof. George Papadourakis 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F23-A38D-409B-A3A2-196E0C8E60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itoring Group</a:t>
            </a: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naire Web site Moni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lot of work have been put into the questionnai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so the Questionnaire Web site developed needed very strong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veral people were participating to the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</a:rPr>
              <a:t>We thank all of them 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406-F56F-47FE-9DD6-6D0644F1100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itoring Group</a:t>
            </a: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naire Monitoring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estionnaire Web site had some complains concerning management from the partner point of vie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estionaires are a bit difficult to be filled because of their number and complexity =&gt; Users need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is can be a problem: we have to know and manage those difficulties in adv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t ready for that and remember tha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e should not relax now 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9CA-7788-49B5-ADF1-506223A892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itoring Group</a:t>
            </a: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 for your attention 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05320" y="3886200"/>
          <a:ext cx="1774800" cy="17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886200"/>
                    <a:ext cx="177480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ternal Monitoring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ves Danto from Bordeau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ictor de Kosins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rge Estev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tín Llamas (IEEE Iberian Education Chap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son known by Oliv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1AD-E340-4059-88EF-722E8F384A3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itoring Group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4:35:54Z</dcterms:created>
  <dc:creator>SEC</dc:creator>
  <dc:description/>
  <dc:language>en-US</dc:language>
  <cp:lastModifiedBy>JC</cp:lastModifiedBy>
  <dcterms:modified xsi:type="dcterms:W3CDTF">2007-12-01T14:54:25Z</dcterms:modified>
  <cp:revision>88</cp:revision>
  <dc:subject/>
  <dc:title>Monitoring Group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