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21D-CA2C-4BA3-89E1-13B1400D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5AD-BC10-4B88-9888-5070DA4C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A61-88F6-4F55-A539-1F2C8F73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BF9-D5EA-4F2F-AA55-7ACD56CC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15AE-0C4E-4CBA-AD40-3DC47EA5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31B1-74B9-43B5-8F83-0AE101DA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D6A8-3B3F-47E9-9410-3A11A22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67CA-2298-4062-9B92-63BE036B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4420-1277-40E0-8123-819DCEA7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38EE-88E9-4085-8EB8-ABF92B26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850F-23F0-4A61-B05B-A64DE676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C17-A842-4CD8-9F72-1782C340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DE6A-3AB2-40B3-97FF-92002F6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68FF-28BC-4D0E-AAC1-EBEAF02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751E-9326-4D12-A52E-53780E22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D425-56F3-41CA-819F-4891700F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2049-F173-42B2-A29B-7339A472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5B0-9851-4099-B954-99E4ED96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69A-86CD-48D7-8B24-1D09C553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383-8B65-45AE-B0B2-B9FD6DB7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D01-C993-49CC-9CFF-187BE10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86D-7640-49DA-AB71-49283A14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7B1-595F-427F-970E-F762BE8C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A18-5F81-4126-9325-149FBF2C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7C56-1DBA-49EB-9606-EFAC325AADA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D5A-7401-46B0-9E0C-8E3807C2568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emorythm.com/scorm/" TargetMode="External"/><Relationship Id="rId2" Type="http://schemas.openxmlformats.org/officeDocument/2006/relationships/hyperlink" Target="http://www.memorythm.com/scorm/" TargetMode="External"/><Relationship Id="rId3" Type="http://schemas.openxmlformats.org/officeDocument/2006/relationships/hyperlink" Target="http://www.memorythm.com/scorm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ataloguing and Quality Assessment</a:t>
            </a:r>
            <a:br>
              <a:rPr sz="4200"/>
            </a:b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of Some Resources in EIE Available Through the Internet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9760" y="3313080"/>
            <a:ext cx="783576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6633"/>
                </a:solidFill>
                <a:latin typeface="Garamond"/>
              </a:rPr>
              <a:t>Dervis Z. Deniz, Jose L. Marz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Surveyor T2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Heraklion, Nov. 30</a:t>
            </a:r>
            <a:r>
              <a:rPr b="0" lang="es-ES" sz="3600" spc="-1" strike="noStrike" baseline="30000">
                <a:solidFill>
                  <a:srgbClr val="006633"/>
                </a:solidFill>
                <a:latin typeface="Garamond"/>
              </a:rPr>
              <a:t>th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-Dec 1</a:t>
            </a:r>
            <a:r>
              <a:rPr b="0" lang="es-ES" sz="3600" spc="-1" strike="noStrike" baseline="30000">
                <a:solidFill>
                  <a:srgbClr val="006633"/>
                </a:solidFill>
                <a:latin typeface="Garamond"/>
              </a:rPr>
              <a:t>st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, 200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80960"/>
            <a:ext cx="7848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2 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2 Work prog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ots 1-3 &amp; Pilot 4 (Fi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2 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mailing support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going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Cat: e-Resources for the e-cat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Surv: Survey results for e-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2 Timeline </a:t>
            </a:r>
            <a:br>
              <a:rPr sz="4200"/>
            </a:br>
            <a:r>
              <a:rPr b="0" lang="es-ES" sz="2600" spc="-1" strike="noStrike">
                <a:solidFill>
                  <a:srgbClr val="006633"/>
                </a:solidFill>
                <a:latin typeface="Garamond"/>
              </a:rPr>
              <a:t>Updated (“Heraklion”) 30 Nov. -1 Dec., 2007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5240" y="1407960"/>
          <a:ext cx="9015120" cy="491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407960"/>
                    <a:ext cx="9015120" cy="49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870600" y="2141640"/>
            <a:ext cx="22320" cy="61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41240" y="20574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2 objectives: a schematic descri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712800" y="1994040"/>
            <a:ext cx="3600360" cy="1873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IE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0640" y="2208240"/>
            <a:ext cx="1511280" cy="1008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16240" y="24462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M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84800" y="2642760"/>
            <a:ext cx="57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60800" y="3651120"/>
            <a:ext cx="1511280" cy="10083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97160" y="3578400"/>
            <a:ext cx="64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43160" y="39592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24280" y="147168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1,2,3 &amp;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24720" y="4849920"/>
            <a:ext cx="30459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ing suppor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8520" y="5302080"/>
            <a:ext cx="1193760" cy="7034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0280" y="530712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per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2"/>
            <a:endCxn id="99" idx="2"/>
          </p:cNvCxnSpPr>
          <p:nvPr/>
        </p:nvCxnSpPr>
        <p:spPr>
          <a:xfrm flipH="1" rot="16200000">
            <a:off x="3564000" y="4409640"/>
            <a:ext cx="429120" cy="20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99" idx="4"/>
            <a:endCxn id="94" idx="3"/>
          </p:cNvCxnSpPr>
          <p:nvPr/>
        </p:nvCxnSpPr>
        <p:spPr>
          <a:xfrm flipH="1" flipV="1">
            <a:off x="5716080" y="4659120"/>
            <a:ext cx="286560" cy="995760"/>
          </a:xfrm>
          <a:prstGeom prst="bentConnector4">
            <a:avLst>
              <a:gd name="adj1" fmla="val -80000"/>
              <a:gd name="adj2" fmla="val 677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flipH="1">
            <a:off x="6146280" y="5994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2 Work progress (i)</a:t>
            </a:r>
            <a:br>
              <a:rPr sz="38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Santander, Craiova, Wells, Bratislava &amp; Prague decisions…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for e-cataloging e-resources (Santand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catalog database with records holding catalog ent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rds to contain information identifying resources, contents and provide a link to its Internet si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forms based user interfa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hors + others to add information about e-learning materials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2 Work progress (ii)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Santander, Craiova, Wells, Bratislava &amp; Prague decisions…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47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based User-Interface for displaying information in the e-catalog database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RM (Sharable Content/Courseware Object Reference Model)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etadat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reed as a potential standard to be studied for classification of e-learning resourc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Craiova meeting, decision to use the SCORM as a basis for classifi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Bratislava meeting the questionnaire was finalized. Demonstrated Pilot v3 at Prag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Realized Progress (I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92240"/>
            <a:ext cx="852156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otype web-based software application developed with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sting of e-catalog entries in the databas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arching of e-catalog entries title, link, author, language, etc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ch record has a link to an e-resource on the Internet. Users can visit e-resources through this web p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y primitive questionnai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version of the questionnaire add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ORM L3 compliant e-cat user interface developed and linked with the e-surve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ta entry limited; no statistical analysis available; user types not clearly set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blems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development and management of the system a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tudents lef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because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imited software scop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alized Progress (II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7920" y="1180800"/>
            <a:ext cx="87757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2 Pilot-4 + E-mail supporting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pletely new vers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of e-cat and e-survey designed and developed (Oct.-Nov.,2007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-mail supporting system has been developed (Sept.-Oct.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test si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memorythm.com/scorm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gistered users: c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-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ed users: c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-resources in e-C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 users: can do all what Registered users can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the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questionnaires (e-evaluation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can evaluate resources added by him-/her-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can modify the resources added by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user can update their “own” e-resource and “e-evalua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2 e-Cat+e-Surv Site + E-mail supporting system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vailable for real data and use in December 200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r Man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lso rea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rategies for data collection and surve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collection for e-c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110 Surveyor partners to provide 5 internal + 5 extra-Institutional, resources for the e-cat (through the EIE contact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is made easier through relaxation of mandatory fields in the SCORM based e-Cat metadata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-line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al version of the quality assessment is available and is coupled to basic statistics outpu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IE contact person will be requested to direct a group of students (e.g. a class of 20-25) to evaluate e-resources in the e-Cat (each student to evaluate one local and one external sit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ed to their cour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ol for managing contact persons e-mailing has bee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ools will be useful for EAEEIE, SMEs and the next proposal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1:56:39Z</dcterms:created>
  <dc:creator>JLM</dc:creator>
  <dc:description/>
  <dc:language>en-US</dc:language>
  <cp:lastModifiedBy>ADMIN</cp:lastModifiedBy>
  <dcterms:modified xsi:type="dcterms:W3CDTF">2007-11-27T10:11:28Z</dcterms:modified>
  <cp:revision>208</cp:revision>
  <dc:subject/>
  <dc:title>T2 </dc:title>
</cp:coreProperties>
</file>