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6F3-76C8-4E67-9191-EE1B6A45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DB6-C8AF-49BE-B3E8-CBEE50F1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0DD-4719-4C10-BFBA-0CE32E0D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71A-299B-48D2-A419-1A49A747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8C1-C2FB-43FF-947A-CF44FC18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BB1-C622-4229-B901-11E0AEA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D67A-F509-4F42-B4FD-68F7535D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92E9-2AE4-4D21-9C88-5C4DCDE3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E95-BAC5-47E1-8963-C6E00A29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109-E17B-4E3F-A424-D0A6DA2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3D4C-0F3A-4B69-BA25-575CAEE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069-A34A-46C9-9D75-DE8BEBD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A4E-8F35-4549-869C-C917261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B34-A3A0-42F4-99D1-E3FA332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04E-9441-42C5-B410-2329379B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15C-B645-4D0F-A299-3CA88AA5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BB21-E144-4BAE-B647-10B993C6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5FC-FF78-4282-9831-EF9B94D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10D-72C8-4EBA-9C41-AFE4CF04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F14-5117-4B21-9091-54F247A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E69-D769-41B3-977F-06D9067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913-D3C0-495B-9B1C-3924D80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215-B2CF-45F8-A8A7-9E72240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7A0-65A3-4977-A44B-733ACC3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EE9-DC12-477A-A824-49E26980C8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E02-9853-4321-B856-B2405C55B6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ccecff"/>
                </a:solidFill>
                <a:latin typeface="Arial Black"/>
              </a:rPr>
              <a:t>Lisbon Convention and Recognition Issues in the European Higher Education Area</a:t>
            </a:r>
            <a:br>
              <a:rPr sz="3600"/>
            </a:br>
            <a:br>
              <a:rPr sz="4000"/>
            </a:br>
            <a:br>
              <a:rPr sz="3200"/>
            </a:br>
            <a:r>
              <a:rPr b="0" lang="et-EE" sz="2800" spc="-1" strike="noStrike">
                <a:solidFill>
                  <a:srgbClr val="ccecff"/>
                </a:solidFill>
                <a:latin typeface="Arial Black"/>
              </a:rPr>
              <a:t>19th EAIEE Annual Conference</a:t>
            </a:r>
            <a:br>
              <a:rPr sz="3200"/>
            </a:br>
            <a:r>
              <a:rPr b="0" lang="et-EE" sz="2400" spc="-1" strike="noStrike">
                <a:solidFill>
                  <a:srgbClr val="ccecff"/>
                </a:solidFill>
                <a:latin typeface="Arial Black"/>
              </a:rPr>
              <a:t>June 29 – July 2, 2008</a:t>
            </a:r>
            <a:br>
              <a:rPr sz="2400"/>
            </a:br>
            <a:r>
              <a:rPr b="0" lang="et-EE" sz="2400" spc="-1" strike="noStrike">
                <a:solidFill>
                  <a:srgbClr val="ccecff"/>
                </a:solidFill>
                <a:latin typeface="Arial Black"/>
              </a:rPr>
              <a:t>Tallin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Gunnar Vah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gunnar@archimedes.e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issues and solutions in the Bologna Process (II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Progress in less traditional recognition c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Qualifications awarded by the transnational provi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Joint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Lifelo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Recognition between EHEA and other parts of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of learning outcom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Focusing on learning outcomes – high expectations from qualific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and Qualifications Frame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The definition </a:t>
            </a:r>
            <a:r>
              <a:rPr b="0" lang="et-EE" sz="3200" spc="-1" strike="noStrike" u="sng">
                <a:solidFill>
                  <a:srgbClr val="ffffff"/>
                </a:solidFill>
                <a:uFillTx/>
                <a:latin typeface="Verdana"/>
              </a:rPr>
              <a:t>learning outcome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will be of key importance, as it will be in the further development of a fair recognition based on WHAT A PERSON KNOWS AND IS ABLE TO DO rather than on the formal procedures that have led to the qualif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 Netwo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ENIC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European Network of Information Centres on Academic Recognition and Mobilit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Verdana"/>
              </a:rPr>
              <a:t>Council of Europe / UNESCO-CE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NARIC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National Academic Recognition Information Centr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Verdana"/>
              </a:rPr>
              <a:t>European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Common tasks and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ffffff"/>
                </a:solidFill>
                <a:uFillTx/>
                <a:latin typeface="Verdana"/>
              </a:rPr>
              <a:t>TWO MAIN FIEL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formation prov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Assessment of foreign qualif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5400" spc="-1" strike="noStrike">
                <a:solidFill>
                  <a:srgbClr val="ccec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 in EH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Is an important component of the whole development towards the European Higher Education Ar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Movement of students and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ternationalisation of higher education institu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New skills and international experience in labor mar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Verdana"/>
              </a:rPr>
              <a:t>Academic recog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The recognition of a qualification </a:t>
            </a:r>
            <a:r>
              <a:rPr b="1" lang="et-EE" sz="2000" spc="-1" strike="noStrike">
                <a:solidFill>
                  <a:srgbClr val="ffffff"/>
                </a:solidFill>
                <a:latin typeface="Verdana"/>
              </a:rPr>
              <a:t>for the purpose of further studies</a:t>
            </a: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. Main task is to assess whether the applicant is capable of continuing studies in the chosen direction and the chosen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Verdana"/>
              </a:rPr>
              <a:t>Professional recog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The recognition of a qualification </a:t>
            </a:r>
            <a:r>
              <a:rPr b="1" lang="et-EE" sz="2000" spc="-1" strike="noStrike">
                <a:solidFill>
                  <a:srgbClr val="ffffff"/>
                </a:solidFill>
                <a:latin typeface="Verdana"/>
              </a:rPr>
              <a:t>for the purpose of employment</a:t>
            </a: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 in a certain profession. Main task is to found out whether the knowledge and professional skills of the applicant are sufficient to pursue a particular profe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de jure</a:t>
            </a: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 – regulated prof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de facto</a:t>
            </a: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 – non-regulated prof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International legal instru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Conven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Recommendations (subsidiary tex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Declar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EU direc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Bilateral and multilateral agre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Co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Convention on the Recognition of Qualifications concerning Higher Education in the European Region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The Lisbon Recognition Convention), 1997 – </a:t>
            </a:r>
            <a:r>
              <a:rPr b="0" i="1" lang="et-EE" sz="3200" spc="-1" strike="noStrike">
                <a:solidFill>
                  <a:srgbClr val="ffffff"/>
                </a:solidFill>
                <a:latin typeface="Verdana"/>
              </a:rPr>
              <a:t>Council of Europe and UN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46 ratifications/acces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Lisbon Recognition Convention – some key concep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Applicants are entitled to a fair recognition of their qualif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Within reasonable time li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Transparent, coherent and reliable procedures and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ight to app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ecognition unless substantial differences can be sh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Importance of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ecognition information centres (national EN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Implementation mechanis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The Lisbon Recognition Convention (outline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 - Defin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I - The Competence of auth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II - Basic principles related to the assessment of qualif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V - Recognition of qualifications giving access to highe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 - Recognition of periods of stu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 - Recognition of higher education qualif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I - Recognition of qualifications held by refugees, displaced persons and persons in a refugee-like situ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II - Information on the assessment of higher education institutions and program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X - Information on recognition matt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X - Implementation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XI - Final clau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Subsidiary docu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Recommendation on the Recognition of Joint Degrees (200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Recommendation on Criteria and Procedures for the Assessment of Foreign Qualifications (200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ode of Good Practice in the Provision of Transnational Education (2001, revised 200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Joint ENIC/NARIC Charter of Activities and Services (200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issues and solutions in the Bologna Pro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Reform and the recognition of degree struc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cl. comparision and recognition of “old” qualif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Quality assurance – a necessary precondition for recogn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lose link between the QA and recogn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ooperation between the net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7:35:55Z</dcterms:created>
  <dc:creator>gunnar</dc:creator>
  <dc:description/>
  <dc:language>en-US</dc:language>
  <cp:lastModifiedBy>gunnar</cp:lastModifiedBy>
  <dcterms:modified xsi:type="dcterms:W3CDTF">2008-06-27T12:42:26Z</dcterms:modified>
  <cp:revision>41</cp:revision>
  <dc:subject/>
  <dc:title>Bologna Process Implementation in Estonia</dc:title>
</cp:coreProperties>
</file>