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0D99-D276-4E2E-AD9E-172B0E844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7EEC-C020-459B-8A13-B3672E3EB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D545-133F-492C-96AC-09DED98B1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AC11-A4F1-4851-962B-D40CEB6A1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1A44-1FED-4CD9-9E6F-167C14F82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234E-35D3-4795-B8E7-17B6EEF47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AC2D-A47A-4FFD-894D-E8834B2D7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77F7-2768-44F0-8B40-CABCE7B4A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2120-50B3-4293-BF1F-A806F5FD4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B989-EE24-4233-81D2-D60831469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9489-731B-45A7-BEED-C1874058F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3B8B-89C0-41D3-9893-1447E3A92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345B-4573-434E-80F0-BF992D962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8F45-1CFD-44AF-8B56-4A899BB3B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D2BC-03E1-4F7F-B543-7BE1A9C36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48CF-2E96-4536-8774-69CF28C54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4BB5-14A6-4B33-938D-E6E74130C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4B26-E58D-4B82-B36B-DCFDE6EB6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F550-4C18-47E2-A144-362C7C56D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FDA1-D48B-46A8-BDEC-27282EC74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DE69-E418-4D61-8C59-51730DF57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05CA-522C-481E-8A0E-39E2E7E9A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8EC3-98AD-467E-916B-997902606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10D7-B892-4DFA-A594-5F7CDA99A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5606-EFA6-435A-B4B6-8AF970816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E229-DB55-4E17-B361-CA647C64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980C-5161-45B0-8B5C-FFB31865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FD8C-3515-4286-BC90-6B105A932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BECC-B7AC-4EEA-80A6-8C5A22905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51AC-2724-436B-B6F0-084F2729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8BF6-E811-4DE6-B453-399D6E8E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53A18-C2A1-44FF-B886-376128F9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9899-6EF9-468B-920D-2F524D31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A634-AA34-42C5-A434-9898DD48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A8EE-FCF1-41B7-B9F1-D1CC2FDC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B47C-7A0C-452D-9F9F-1D8FDEDD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2825-34A2-4840-A4E4-5E653664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017C-D3B9-490D-AA87-66741C69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913B-4896-46EC-9D59-43547248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8C96-F343-4FB1-9442-18D4B6954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3132-76F6-49C9-8D60-4BE0954A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1199D-72B2-41FE-9995-0D9DBD70F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BFB00-DB1D-4989-AD7B-842771C2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749CF-06D2-4B29-8F05-3C390F82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CCC68-885E-4BA6-BB10-E3CA4DE8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CCA2D-F191-44F1-9B49-A1D41E96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3A56-1434-46B8-BF5C-52771066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38C4E-27A8-4832-8D2C-C9D9A507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B3852-0A58-4D6C-8080-464EDA46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1C4D6-AEF8-442A-AD40-92C7F415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F989D-0915-4CF4-9040-20EE2611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EED77-DB94-4F77-85A8-A3618178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5EE53-52EC-4905-AFCC-5A297303E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0807E-1DAC-40FB-B650-569BF0D6C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6B21-90F7-4FC3-A700-1FED7FAD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00A6-B9EC-41FF-B093-AB3E8039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65E9-944A-4847-8696-2DD0B06C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9A34-EEDE-4D10-BAAE-9F16285D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BE66-CC51-4DDC-9A77-658C7A01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BC04-E505-46A7-947A-E3AA544D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E1D6-216C-41E2-9A51-EB8536D535AF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8 Imagen" descr="logo_EIE_Surveyor_without_text.gif"/>
          <p:cNvPicPr/>
          <p:nvPr/>
        </p:nvPicPr>
        <p:blipFill>
          <a:blip r:embed="rId2"/>
          <a:stretch/>
        </p:blipFill>
        <p:spPr>
          <a:xfrm>
            <a:off x="0" y="0"/>
            <a:ext cx="1257480" cy="113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74F1-1707-444D-9A01-86C767E73E5F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8 Imagen" descr="logo_EIE_Surveyor_without_text.gif"/>
          <p:cNvPicPr/>
          <p:nvPr/>
        </p:nvPicPr>
        <p:blipFill>
          <a:blip r:embed="rId2"/>
          <a:stretch/>
        </p:blipFill>
        <p:spPr>
          <a:xfrm>
            <a:off x="0" y="0"/>
            <a:ext cx="1257480" cy="1133640"/>
          </a:xfrm>
          <a:prstGeom prst="rect">
            <a:avLst/>
          </a:prstGeom>
          <a:ln w="0">
            <a:noFill/>
          </a:ln>
        </p:spPr>
      </p:pic>
      <p:pic>
        <p:nvPicPr>
          <p:cNvPr id="90" name="9 Imagen" descr="logo_EIE_Surveyor_without_text.gif"/>
          <p:cNvPicPr/>
          <p:nvPr/>
        </p:nvPicPr>
        <p:blipFill>
          <a:blip r:embed="rId3"/>
          <a:stretch/>
        </p:blipFill>
        <p:spPr>
          <a:xfrm>
            <a:off x="0" y="5724360"/>
            <a:ext cx="1257480" cy="1133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88B5-747A-4AF9-9DCC-EC917C86AA67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ahar.web.tr/Survey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35240" y="277920"/>
            <a:ext cx="7557840" cy="12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6633"/>
                </a:solidFill>
                <a:latin typeface="Garamond"/>
              </a:rPr>
              <a:t>Cataloguing and Quality Assessment</a:t>
            </a:r>
            <a:br>
              <a:rPr sz="4000"/>
            </a:br>
            <a:r>
              <a:rPr b="0" lang="es-ES" sz="4000" spc="-1" strike="noStrike">
                <a:solidFill>
                  <a:srgbClr val="006633"/>
                </a:solidFill>
                <a:latin typeface="Garamond"/>
              </a:rPr>
              <a:t>of Some Resources in EIE Available Through the Internet </a:t>
            </a:r>
            <a:br>
              <a:rPr sz="4000"/>
            </a:b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9760" y="3313080"/>
            <a:ext cx="7835760" cy="26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6633"/>
                </a:solidFill>
                <a:latin typeface="Garamond"/>
              </a:rPr>
              <a:t>Dervis Z. Deniz, Denis Genon-Catalot,</a:t>
            </a:r>
            <a:br>
              <a:rPr sz="3000"/>
            </a:br>
            <a:r>
              <a:rPr b="0" lang="es-ES" sz="3000" spc="-1" strike="noStrike">
                <a:solidFill>
                  <a:srgbClr val="006633"/>
                </a:solidFill>
                <a:latin typeface="Garamond"/>
              </a:rPr>
              <a:t> Jose L. Marz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Surveyor T2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33"/>
                </a:solidFill>
                <a:latin typeface="Garamond"/>
              </a:rPr>
              <a:t>Tallinn, 29 June, 200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509760" y="195120"/>
            <a:ext cx="8081640" cy="64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58640" y="277920"/>
            <a:ext cx="73278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utl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380960"/>
            <a:ext cx="784872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2 Objec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2 Work progr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lots 1-4 &amp; Pilot 5 (Fin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estionnai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2 surv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mailing/contact support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going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Cat: e-Resources for the e-catalog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Surv: Survey results for e-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ed outcomes &amp; contrib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6" descr=""/>
          <p:cNvPicPr/>
          <p:nvPr/>
        </p:nvPicPr>
        <p:blipFill>
          <a:blip r:embed="rId1"/>
          <a:stretch/>
        </p:blipFill>
        <p:spPr>
          <a:xfrm>
            <a:off x="392040" y="0"/>
            <a:ext cx="829008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457200" y="299880"/>
            <a:ext cx="8229600" cy="637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47760" y="277920"/>
            <a:ext cx="743904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T2 Timeline </a:t>
            </a:r>
            <a:br>
              <a:rPr sz="4200"/>
            </a:br>
            <a:r>
              <a:rPr b="0" lang="es-ES" sz="2600" spc="-1" strike="noStrike">
                <a:solidFill>
                  <a:srgbClr val="006633"/>
                </a:solidFill>
                <a:latin typeface="Garamond"/>
              </a:rPr>
              <a:t>Updated (“Tallinn”) 29 June, 2008</a:t>
            </a:r>
            <a:endParaRPr b="0" lang="en-US" sz="2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86" name="Object 3"/>
          <p:cNvGraphicFramePr/>
          <p:nvPr/>
        </p:nvGraphicFramePr>
        <p:xfrm>
          <a:off x="476280" y="1606680"/>
          <a:ext cx="7931160" cy="429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606680"/>
                    <a:ext cx="7931160" cy="42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Line 4"/>
          <p:cNvSpPr/>
          <p:nvPr/>
        </p:nvSpPr>
        <p:spPr>
          <a:xfrm>
            <a:off x="7756560" y="2195640"/>
            <a:ext cx="22320" cy="618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6880320" y="213192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34800" y="277920"/>
            <a:ext cx="769932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Expected outcomes &amp; contribution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20840" y="10681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Novel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99640" indent="-3088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-Surv linked to e-C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99640" indent="-3088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valuation rubr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179000" indent="-27792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79000" indent="-27792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Weighting of the ans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79000" indent="-27792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sessment of the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ool set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99640" indent="-3088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-C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99640" indent="-3088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-Sur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99640" indent="-3088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-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est data: pen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3640" y="277920"/>
            <a:ext cx="77598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2 objectives: </a:t>
            </a: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a schematic description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Oval 5"/>
          <p:cNvSpPr/>
          <p:nvPr/>
        </p:nvSpPr>
        <p:spPr>
          <a:xfrm>
            <a:off x="712800" y="1994040"/>
            <a:ext cx="3600360" cy="1873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IE resourc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5030640" y="2208240"/>
            <a:ext cx="1511280" cy="100800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C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6816240" y="2446200"/>
            <a:ext cx="17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RM ba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8"/>
          <p:cNvSpPr/>
          <p:nvPr/>
        </p:nvSpPr>
        <p:spPr>
          <a:xfrm flipV="1">
            <a:off x="4384800" y="2642760"/>
            <a:ext cx="57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9"/>
          <p:cNvSpPr/>
          <p:nvPr/>
        </p:nvSpPr>
        <p:spPr>
          <a:xfrm>
            <a:off x="4960800" y="3651120"/>
            <a:ext cx="1511280" cy="100836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Sur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4097160" y="3578400"/>
            <a:ext cx="648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6743160" y="39592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assess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nai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5624280" y="1471680"/>
            <a:ext cx="18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lot 1,2,3,4&amp;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1224720" y="4849920"/>
            <a:ext cx="304596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ing supporting 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4"/>
          <p:cNvSpPr/>
          <p:nvPr/>
        </p:nvSpPr>
        <p:spPr>
          <a:xfrm>
            <a:off x="4808520" y="5302080"/>
            <a:ext cx="1193760" cy="70344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-mail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6470280" y="5307120"/>
            <a:ext cx="17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ey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 pers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AutoShape 16"/>
          <p:cNvCxnSpPr>
            <a:stCxn id="152" idx="2"/>
            <a:endCxn id="153" idx="2"/>
          </p:cNvCxnSpPr>
          <p:nvPr/>
        </p:nvCxnSpPr>
        <p:spPr>
          <a:xfrm flipH="1" rot="16200000">
            <a:off x="3564000" y="4409640"/>
            <a:ext cx="429120" cy="20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6" name="AutoShape 17"/>
          <p:cNvCxnSpPr>
            <a:stCxn id="153" idx="4"/>
            <a:endCxn id="148" idx="3"/>
          </p:cNvCxnSpPr>
          <p:nvPr/>
        </p:nvCxnSpPr>
        <p:spPr>
          <a:xfrm flipH="1" flipV="1">
            <a:off x="5716080" y="4659120"/>
            <a:ext cx="286560" cy="995760"/>
          </a:xfrm>
          <a:prstGeom prst="bentConnector4">
            <a:avLst>
              <a:gd name="adj1" fmla="val -80000"/>
              <a:gd name="adj2" fmla="val 677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" name="Line 18"/>
          <p:cNvSpPr/>
          <p:nvPr/>
        </p:nvSpPr>
        <p:spPr>
          <a:xfrm flipH="1">
            <a:off x="6146280" y="59943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0" y="582480"/>
            <a:ext cx="79200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T2 Work progress (i)</a:t>
            </a:r>
            <a:br>
              <a:rPr sz="3800"/>
            </a:br>
            <a:r>
              <a:rPr b="0" lang="en-US" sz="2600" spc="-1" strike="noStrike">
                <a:solidFill>
                  <a:srgbClr val="006633"/>
                </a:solidFill>
                <a:latin typeface="Garamond"/>
              </a:rPr>
              <a:t>Santander, Craiova, Wells, Bratislava &amp; Prague decisions…</a:t>
            </a:r>
            <a:endParaRPr b="0" lang="en-US" sz="2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ed for e-cataloging e-resources (Santand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catalog database with records holding catalog entri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ords to contain information identifying resources, contents and provide a link to its Internet sit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 forms based user interfa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thors + others to add information about e-learning materials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85840" y="277560"/>
            <a:ext cx="795816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T2 Work progress (ii)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6633"/>
                </a:solidFill>
                <a:latin typeface="Garamond"/>
              </a:rPr>
              <a:t>Santander, Craiova, Wells, Bratislava &amp; Prague decisions…</a:t>
            </a:r>
            <a:endParaRPr b="0" lang="en-US" sz="2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470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 based User-Interface for displaying information in the e-catalog database.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ORM (Sharable Content/Courseware Object Reference Model)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metadat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reed as a potential standard to be studied for classification of e-learning resourc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Craiova meeting, decision to use the SCORM as a basis for classific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Bratislava meeting the questionnaire was finalized. Demonstrated Pilot v3 at Pragu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monstrated Pilot v4 at Herakl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lot v5 ready at Tallin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98080" y="277920"/>
            <a:ext cx="748836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Realized Progress (I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092240"/>
            <a:ext cx="8521560" cy="50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2 Pilot-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totype web-based software application developed with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sting of e-catalog entries in the databas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arching of e-catalog entries title, link, author, language, etc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ach record has a link to an e-resource on the Internet. Users can visit e-resources through this web pag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ery primitive questionnair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2 Pilot-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w version of the questionnaire add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2 Pilot-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ORM L3 compliant e-cat user interface developed and linked with the e-survey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ata entry limited; no statistical analysis available; user types not clearly set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blems: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n development and management of the system as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students lef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nd because of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limited software scop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0000" y="277920"/>
            <a:ext cx="742644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Realized Progress (II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67920" y="1180800"/>
            <a:ext cx="87757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2 Pilot-4 + E-mail supporting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mpletely new versio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of e-cat and e-survey designed and developed (Oct.-Nov.,2007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-mail supporting system has been developed (Sept.-Oct.,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y test si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bahar.web.tr/Survey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registered users: ca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ear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e-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ed users: ca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ear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valu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-resources in e-C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 users: can do all what Registered users can d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c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e the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questionnaires (e-evaluations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user can evaluate resources added by him-/her-sel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user can modify the resources added by oth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user can update their “own” e-resource and “e-evaluation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2 e-Cat+e-Surv Site + E-mail supporting system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b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vailable for real data and use by July 15, 2008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ser Manu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lso rea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35160" y="277920"/>
            <a:ext cx="774864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trategies for data collection and surve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247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ta collection for e-c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 110 Surveyor partners to provide 2 internal + 1 extra-Institutional, resources for the e-cat (through the EIE contact pers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collection is made easier through relaxation of mandatory fields in the SCORM based e-Cat metadata form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n-line surv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nal version of the quality assessment is available and is coupled to basic statistics outpu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EIE contact person will be requested to direct a group of students (e.g. a class of 20-25) to evaluate e-resources in the e-Cat (each student to evaluate one local and one external sit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lated to their cour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ool for managing contact persons e-mailing has been devel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tools will be useful for EAEEIE, SMEs and the next proposal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11:56:39Z</dcterms:created>
  <dc:creator>JLM</dc:creator>
  <dc:description/>
  <dc:language>en-US</dc:language>
  <cp:lastModifiedBy>marzo</cp:lastModifiedBy>
  <dcterms:modified xsi:type="dcterms:W3CDTF">2008-06-29T08:43:13Z</dcterms:modified>
  <cp:revision>236</cp:revision>
  <dc:subject/>
  <dc:title>T2</dc:title>
</cp:coreProperties>
</file>