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3A3C-DDEA-40C3-8383-442A8AE30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DCBE-CF2D-451D-8C71-5362DFE09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BD24-BAA8-47B2-BCE3-5B8DE07DB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B566-BA8E-46DE-90EE-81C666AB2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3E75-DE75-40D4-94EA-315EFCF69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8AC5-05F2-4FA9-ABBE-FC0C0C8B4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62E3-831B-4FF5-ACA1-279CF5399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9905-C8D6-4CB7-BCBF-3B95564FE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CB4C-63A3-4259-B34B-45123BBA8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A90D-26D1-4EF9-9E6C-44D97512B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5538-956D-40CC-92C1-F60E6C9D6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F8A4-4C71-4CE6-AC77-9DFC8ADD6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3480" y="6378480"/>
            <a:ext cx="70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rd General Meeting, Tallinn (Estonia), 29th Jun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4C28-0515-4C05-8806-BEA9A9B60E21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86E-78A4-4EB1-B420-9BD929E21920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219240" y="625644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625644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103400" y="6273720"/>
          <a:ext cx="68112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03400" y="6273720"/>
                    <a:ext cx="6811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728800"/>
            <a:ext cx="84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rd General Meeting Meeting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Marc THIRIE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iversité Joseph Fourier Gre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85720" y="448416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llinn (Eesti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9th Jun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 you, Gert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53240" y="115920"/>
            <a:ext cx="27352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September 2008, final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0 partners – 8 =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+ 0 company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3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NL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PT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formation from partners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5th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mpact of the TN, unexpected out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Bibliographical references of members (Dissemination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Dissemination actions of partn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gran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ctual budget (June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esent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rcentage of approved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00051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22833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0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14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261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8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031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66897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47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254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4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32203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4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xpected budget (end of the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32000" y="1052640"/>
          <a:ext cx="8292960" cy="538308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esent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rcentage of approved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7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1,6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8,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5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,3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7 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8,1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rant 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 102 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88,1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Grant 353 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vel and subsistenc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ation of subsistence costs: 1 per diem / night + ½ per diem for travel (NOT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istence costs eligible for external experts coming from outside Socrates countries (but not Travel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vel and subsistence costs for students participating to the plenary meeting are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sts (travel, accomodation) as co-financing of your institution for « travel and subsistence 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Other travel and subsistence (for instance days for your participation to the EAEEIE co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Staff costs – 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staff costs related to all persons involved in the project by institution can be charged into the project, according to the time effectively spent =&gt;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BE REALISTIC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osts should be calculated on the hourly, daily, monthly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ros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st (salaire brut) multiplied by the number of hours, days or months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beneficiary and partners must keep full and accur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sonnel costs should not exceed the norm for the labour market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onteer costs (bénévoles) not eligible – real co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quipment and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tal value &lt; € 1 000, the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full purchase valu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eligible, adjusted to the percentage use in the project;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urchase price &gt; € 1 000, hardware and equipment are considered as having a life expectancy of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hree yea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ple: the allowable cost in year one for a piece of equipment worth € 10 000, which is used 50 % for the project, amounts to € 1 66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0 000 x 33.33% x 50% = € 1 666.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s required: inv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costs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231920"/>
            <a:ext cx="8915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 charg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ing or maintaining of an account established especially for the project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nk transfer and exchange costs relating to receipts and payments for eligible expenditure under the projec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&gt; contacter le service financier pour récupérer les coûts bancaires des transf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incurred in producing, translating and publishing documents, performed by one of the member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communication costs in duly justified cases for projects where activities require very intensive use of this type of 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ring of conference halls or training premis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s required: Inv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claration of costs (registration) as co-financing of your institution for « other costs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x: registration for the EAEEIE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AEEIE membership 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Renting of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66cc"/>
                </a:solidFill>
                <a:latin typeface="Arial"/>
              </a:rPr>
              <a:t>TAKE CARE !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Only in the eligible zone (EU27 + NO + IS + FL + 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dd jus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Keep records of all your documents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The European Commission can request documents from you 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ologies for abs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 Barsics (BE, Liè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. Lhotska (CZ, Pra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 Perra (IT, Caglia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J. Martins (PT, Lisb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 Robert (FR, Na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 Diprose (Spectrum Ltd, 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nera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1595160"/>
            <a:ext cx="8915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ommunication costs (postage, fax, telephone, mailing, etc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frastructure costs (rent, electricity, etc.) of the premises where the project is being carried out, in proportion to the use of these premises by the pro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office suppl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hotocop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beneficiary will not be required to produce supporting documents for general costs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br>
              <a:rPr sz="3600"/>
            </a:br>
            <a:r>
              <a:rPr b="0" i="1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2160" y="1401840"/>
          <a:ext cx="5943600" cy="49006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for Nancy, 2 for Gren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ing team, monitoring group, tasks 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points per</a:t>
                      </a: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sation of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points per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tion to a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point per 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red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 point per line in the t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1.1 T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Questionnaire – 4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and Correct the Questionnaire – 1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ribution to meetings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 of meeting and engagement of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d on number of questionnaires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 of number of responses of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1.3 Accre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Coordination task 1.3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Participation task 1.3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2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o did what during the life time of the proje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ORM 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dified SCORM 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stionnaire 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ILOTS 1-4 and Real Server --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act Management --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tribution of points to all who have joined the meetings for task 2 and con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tribution of points to those who have done the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tribution of points to partner coordinators who will put real data into the e-C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3.1 Observ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Management of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Authors of general papers – 2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tional contact (update of the data for a country) – 0,2 point pe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3.3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t the beginning of the task and, main questions to ask in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of the task and main question to ask in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ign of the complet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the questionnaires phase 1 - Student Questionnair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the questionnaires phase 2 - Surveyor questionnaire and mobility 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the questionnaires 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ing of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for the end of the task and main questions to ask in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raction of result from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rt on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alising Report on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esign of the Web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periment of the Web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port on the web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31800" y="1566720"/>
          <a:ext cx="8915400" cy="4586400"/>
        </p:xfrm>
        <a:graphic>
          <a:graphicData uri="http://schemas.openxmlformats.org/drawingml/2006/table">
            <a:tbl>
              <a:tblPr/>
              <a:tblGrid>
                <a:gridCol w="1498680"/>
                <a:gridCol w="1577880"/>
                <a:gridCol w="1420920"/>
                <a:gridCol w="1420920"/>
                <a:gridCol w="1419120"/>
                <a:gridCol w="1577880"/>
              </a:tblGrid>
              <a:tr h="20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ed 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ximum grant (30 % of the budg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ossible grant (number of points * value of 1 po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Effective gr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of the grant used (reimbursement of previous trav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Part of the grant to trans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22*0,3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96,6 -0= 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71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471,24*0,3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41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7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5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7830-2125,24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5704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Administrative contact in 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 Lemar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, rue Jean La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4 519 Vandoeuvre les Nancy ce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x: +33 3 83 68.5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.Lemarquis@esstin.uhp-nancy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nday 29th Jun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9.00 EIE-Surveyor plenary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ral information – Final report (JM Thiri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ncial aspects (JM Thiri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comes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Data from the questionnaires (J. Ligus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1 Tuning (A. Ward &amp; J. Jasenek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1.3 Accreditation (D. Pasquet, C. Burkley &amp; F. Maciel-Barbo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2 Quality (D. Deniz, JL Marzo-Lazaro &amp; D. Genon-Catalot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3 Bologna Observatory (JM Thiriet &amp; G. Jervan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3.3 Portal (H. Yahoui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Feedback from the monitoring group with external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vancement state of the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 Points » and list of partners involved in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ebsite (pages outco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totype of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semination action for the outcome (list of addresses for the disse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urope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2680" y="-27000"/>
            <a:ext cx="86997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9240" y="1341000"/>
            <a:ext cx="8778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1.1 Competences, TUNING (A. Ward, J. Jasene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compe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compe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1.3. Methodology for accredi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D. Pasquet, F. Maciel-Barbosa, C. Burkley, M. Hoffm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2. Internet as educational resource for EIE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.L. Marzo-Lazaro, D. Deniz, D. Genon-Catalo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3. Survey, BMD-process in Europe (M.J. Martins, G. Jerv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3.1. Bologna process in EIE at the bachelor, master and PhD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3.3 Portal on mobility, EIE curricula</a:t>
            </a:r>
            <a:r>
              <a:rPr b="0" lang="fr-FR" sz="2400" spc="-1" strike="noStrike">
                <a:solidFill>
                  <a:srgbClr val="b8022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H. Yaho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0160" y="14241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02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80220"/>
                </a:solidFill>
                <a:latin typeface="Arial"/>
              </a:rPr>
              <a:t>TRANSVERSAL TASK: Portal for the various tasks (J. Li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monitoring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ponsible: Hélène Frémon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ion: Juan Carlos Burguillo, Karl Guðmund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ternal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cques Cit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ves D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NERAL DISSEMINATION POLICY (J. Bar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44280"/>
            <a:ext cx="8917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Maximum per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84280" y="549360"/>
          <a:ext cx="8292960" cy="6207120"/>
        </p:xfrm>
        <a:graphic>
          <a:graphicData uri="http://schemas.openxmlformats.org/drawingml/2006/table">
            <a:tbl>
              <a:tblPr/>
              <a:tblGrid>
                <a:gridCol w="2435040"/>
                <a:gridCol w="1711440"/>
                <a:gridCol w="2073600"/>
                <a:gridCol w="207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in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in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Bel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Ic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K Den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 Liechten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N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 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 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 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 Czech R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 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 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 Ir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 Cyp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V Lat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 Luxembo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 Lithu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L 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 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 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 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 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 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 United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 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256360" y="2570040"/>
            <a:ext cx="2447640" cy="7304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LLP themat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I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Lifelong Learning for the Electrical and Information Engineer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ed Yahoui (Université Claude Bernard Lyon 1 coord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October 2005, begi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1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K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1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January 2007, progress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1 partners –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1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January 2007, progress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1 partners – 7 + 6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2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between progress and final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0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3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8-08-22T22:21:24Z</dcterms:modified>
  <cp:revision>650</cp:revision>
  <dc:subject/>
  <dc:title>Aucun titre de diapositive</dc:title>
</cp:coreProperties>
</file>