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67A7-60A4-4943-AD3E-2ED4DC8D5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A10-DE5D-4A51-9768-80865A1C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CFF-0386-4477-A654-EB389C12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30D-6AB6-4A44-BBDE-027B1079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8DB-DDD0-42D7-BC69-4FB20BE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F5F-2D57-4076-B342-A7AF09E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462-DA89-4D0D-B18A-DC0E2BE9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4C4-DD20-44CC-9C14-6E60BC7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09E-E87F-41A1-9046-9462DD7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46C-35C9-4299-B8F1-3906645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28E-2F7B-4BC3-BFDD-41DD208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E0E-15AE-4C4B-8A18-28081C0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EA8-3A47-4481-BAFA-1393537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llinn, Ee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 Jun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119E9-B7D9-4829-975E-E038B1B7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ory of the Bologn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the Mon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sourcing the formatting and publishing process ( Karl Guðmund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ke away the 1st part and replace it with articles from partners concerning the BM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data analysis ( M. Joao &amp; Pe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overview (Olivier &amp; Micha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26920" y="1284120"/>
          <a:ext cx="7705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84120"/>
                    <a:ext cx="7705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9640" y="1749600"/>
          <a:ext cx="7362720" cy="40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749600"/>
                    <a:ext cx="7362720" cy="40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st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double dipl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4360" y="40464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6970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: K. 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V : R. Catth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W : J. Bar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BG : D. Dimi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Y : D. De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Z : M. Ch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: M. Hoffmann &amp; H. R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K: can ask Anna Fri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: G. Jer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6970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: J. Benlloch and A. Sua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: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 : J.M.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GR: G. Tsirigotis and G. Papadoura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: C. C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IE: C. Burk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IS: K. Guðmund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: C. P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LT: R. Krivic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4360" y="41904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17114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 : JM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V: I. Slaid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MT: A. L. Ga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L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NO: S. Mylvag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PL: W. G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PT: F. Maciel-Barbosa and MJ Marti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7114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RO: D. Pop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: Univ; of Goteb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: Univ. Of Ljublj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SK: J. Jas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TR: B. Karaog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UA: A. Zynovch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K: T. Ward and  M. Dip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Copies per partner (CD-version) (1 for partner, 1 for Department, 1 for international office, 1 for National Socrates Agency, 1 for professional Engineering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on the website (downloa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ies to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IEEE educationa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SE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 mail to partners to disseminate the information on their websites to student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pers on IEEE education and EJ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to other TNs and ASEE, and IEEE Gold, SPIE, URSI, 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Karl Solvi Guðmundsson - Univ. of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; of Goteborg,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. Of Ljubljana,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so</cp:lastModifiedBy>
  <dcterms:modified xsi:type="dcterms:W3CDTF">2008-06-29T03:23:41Z</dcterms:modified>
  <cp:revision>12</cp:revision>
  <dc:subject/>
  <dc:title>Task 3.3</dc:title>
</cp:coreProperties>
</file>