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866A-0483-4398-A8DA-EC5B84FD2A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terestingly four of the bottom five are rated as the least important and the least well developed, a degree of alig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owever at the more important top only Problem solving appears in both lis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enerally the two lists show poor overall, aggregated alig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6C0-F82C-46A0-8851-56AAD882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B87-467C-4155-ABD6-B774CCC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274-5865-4402-A911-D3BCAFD4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960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828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960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828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2E1-4420-4B10-AAC7-B20F295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C36C-C9C6-490B-B3D2-90A0FACA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CBC-0FD0-43BF-B1E7-C8A275C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7325-ACAC-44B9-9A5E-F3BB51F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510-E7E3-4DA6-8BF4-DD7F1C1F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F666-5AF1-4AAD-8CF8-F1EEB427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00360" y="115920"/>
            <a:ext cx="6192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3EE-DF8E-448D-B728-C0D1AB9C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D74-16DC-44DC-B066-91C31C16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CBD-8B81-4BA6-B888-5549072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3BB5-2FF5-4630-9B6A-875057D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E5E6-7004-400C-84FC-0605089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6A87-0837-46D7-A283-87599BF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091-1CCB-4F7D-89FB-05FD8F38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9960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828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92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9960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828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CC32-707D-4B79-9055-0E4F532E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7E4-DFAE-47A0-A2C0-3A1D5F1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789-26D8-4ED0-A453-43A3638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4E1-8117-43C1-97ED-ED1ED19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0360" y="115920"/>
            <a:ext cx="6192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033-0155-4774-A85B-7302CD4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9BF-413F-439F-BC41-0724D78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50B-804E-42CC-A32F-B131DBC8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A81-4963-446B-8BC6-7D7EFBC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7367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6F2-8801-417E-A4D8-12BAD3D531E5}" type="datetime2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Thursday 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4111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80360" y="6381360"/>
            <a:ext cx="15127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2CF7-9DDD-4D76-841F-B4718EBC8A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368440" cy="287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355680" cy="43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001000" y="54100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7543800" y="0"/>
            <a:ext cx="160020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50920" y="6381360"/>
            <a:ext cx="273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7D9-F266-493C-8F9B-1BB44489C194}" type="datetime2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Thursday 30 July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4111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380000" y="6381360"/>
            <a:ext cx="14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03F-E3FE-4F8E-9F38-C68FA10A0AF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3311280" cy="40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0" t="0" r="1180" b="14102"/>
          <a:stretch/>
        </p:blipFill>
        <p:spPr>
          <a:xfrm>
            <a:off x="0" y="3538440"/>
            <a:ext cx="9144000" cy="277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56000" y="620640"/>
            <a:ext cx="416160" cy="504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94920"/>
            <a:ext cx="86421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sk 1.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ing Methodology applied to EIE across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2420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ony Ward, Jozef Jasene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University of York,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Director CETL Enterpri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Department of Electronic 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1560" y="1620720"/>
          <a:ext cx="7891560" cy="388008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Patents and I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 Appreciation of ethic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 Appreciation of diversity &amp; multicultur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Lead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 Understanding of cultures and customs of other cou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71560" y="1620720"/>
          <a:ext cx="7891560" cy="397692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iffere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Knowledge of a second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apacity for generating new ideas (creativ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Ability to work in an international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Lead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Capacity for applying knowledge in pract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71560" y="1620720"/>
          <a:ext cx="7891560" cy="400536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iffere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Oral and written communications in n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 Research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 Basic general technical knowledge of the profession of your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Grounding in basic knowledge of the profession of your work ar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5240" y="990720"/>
          <a:ext cx="7891560" cy="5321160"/>
        </p:xfrm>
        <a:graphic>
          <a:graphicData uri="http://schemas.openxmlformats.org/drawingml/2006/table">
            <a:tbl>
              <a:tblPr/>
              <a:tblGrid>
                <a:gridCol w="4995720"/>
                <a:gridCol w="2895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Ability to apply appropriate quantitative methematical, science and engineering methods and computer software to solve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bility to work in a group on a major pro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Ability to demonstrate practical engineer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bility to demonstrate knowledge and understanding of scienfici facts, concepts, theories, principle &amp;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bility to apply a systems approa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990720"/>
          <a:ext cx="8305920" cy="541944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Ability to demonstrate awareness of the legal framework relevant to engineering activities, including personnel, health, safety, and risk (including environmental risk)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of management techniques which may be used to achieve engineering objectives within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nature of intellectual property and contractu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n appreciation of the wider multidisciplinary engineering context and its underlying princi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90720"/>
          <a:ext cx="8305920" cy="572436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mathematics principles and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Ability to apply appropriate quantitative mathematical, science and engineering methods and computer software to solve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scientific facts, concepts, theories, principles and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identify, classify and describe the performance of systems and components through the use of analytical methods and modelling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apply a systems approach to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62000" y="4235400"/>
            <a:ext cx="30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133640"/>
          <a:ext cx="8305920" cy="511488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understand and take into account social, environmental, ethical, economic and commercial considerations affecting the exercise of engineering jud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nature of intellectual property and contractu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of management techniques which may be used to achieve engineering objectives within the commercial and economic cont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legal framework 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52280" y="4191120"/>
            <a:ext cx="30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actor Analysis (Generic)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d Varimax Fac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actors (48.4% total var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d Importance similar but not identical to 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Competence” (6 items, 16.1% varia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bility to work autonom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ill to succ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oncern for qua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roblem solv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roject design and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generating new ideas (creativity)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actor Analysis (Generic)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ersonal Competence” (3 items, 11.3% variance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rpersonal skil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amwork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ral and written communications in your native langu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iversity Awareness” (3 items, 10.7% varia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standing of cultural and customs of other count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reciation of ethical issu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reciation of diversity and multiculturalit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fessional Competence” (4 items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rounding in basic knowledge of the profession of your work 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Basic general technical knowledge of the profession of your work 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analysis and synthesi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applying knowledge in practic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 Wh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npu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what they think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of perception of importance of competences compared to their perception of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&amp; Employment Institut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bstracted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hinks which competences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demand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level (National &amp; European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nalysed im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of important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Demand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11736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(reported here) - Demograph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Competenc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 Competenc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we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questionnaires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 based being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 to be collated (not a larg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analysis (SP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summa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technical report (full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Project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4264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 full dat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port on survey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n-line report (on web s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Dissemination (Need contacts &amp; addres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, SEFI, FEANI, CEDEFOP(?), Tuning Projec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: EAEEIE, SEFI, ITH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: IEEE Educational Portal,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 Subject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 (Engineering Professors Counc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(Engineering Counc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E (Royal Academy of Engine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S (British Computer Soci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Questionnaires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Collection (On-line, Paper, Email)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Entry &amp; Validat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Analysis (SPSS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- Pilot analysis under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&amp;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sample reported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sample n = 1,783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Paper based: (approx 1,100 1,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n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vak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3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65.5%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3% Male, 16.7% Female, 36 ref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Undergraduates, 26.8% Post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.2% &lt;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.6%  21 &lt; n &lt;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295280"/>
            <a:ext cx="685800" cy="0"/>
          </a:xfrm>
          <a:prstGeom prst="line">
            <a:avLst/>
          </a:prstGeom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naire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Competenc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Competenc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importance &amp; perceived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point Likert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ic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Do you feel that the degree is preparing you adequately for employment?” Approx equal Bachelor &amp; 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Very 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0.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42.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 87.4% positiv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35.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emale mean: 2.58, Male mean 2.52  (1..5) - Not g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How would you rate the employment potential of your degre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emale mean: 2.25, Male mean: 2.16 (Between Some &amp; Lit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urther analysis needed to tr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143000"/>
          <a:ext cx="8424720" cy="4978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1600200"/>
          <a:ext cx="7315200" cy="3591000"/>
        </p:xfrm>
        <a:graphic>
          <a:graphicData uri="http://schemas.openxmlformats.org/drawingml/2006/table">
            <a:tbl>
              <a:tblPr/>
              <a:tblGrid>
                <a:gridCol w="480060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 Problem sol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 Capacity for applying knowledge in pract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 Team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 Knowledge of a second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491840" y="5410080"/>
            <a:ext cx="35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= Considerable, 4 = Str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143000"/>
          <a:ext cx="8424720" cy="4978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914400" y="1600200"/>
          <a:ext cx="7315200" cy="700200"/>
        </p:xfrm>
        <a:graphic>
          <a:graphicData uri="http://schemas.openxmlformats.org/drawingml/2006/table">
            <a:tbl>
              <a:tblPr/>
              <a:tblGrid>
                <a:gridCol w="480060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14400" y="2330280"/>
          <a:ext cx="7848720" cy="3841920"/>
        </p:xfrm>
        <a:graphic>
          <a:graphicData uri="http://schemas.openxmlformats.org/drawingml/2006/table">
            <a:tbl>
              <a:tblPr/>
              <a:tblGrid>
                <a:gridCol w="4243320"/>
                <a:gridCol w="36054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. Research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. Patents and Intellectual Property Righ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. Appreciation of ethic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1. Appreciation of diversity and multicultur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. Understanding of cultures and customs of other cou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71560" y="1620720"/>
          <a:ext cx="7891560" cy="3942000"/>
        </p:xfrm>
        <a:graphic>
          <a:graphicData uri="http://schemas.openxmlformats.org/drawingml/2006/table">
            <a:tbl>
              <a:tblPr/>
              <a:tblGrid>
                <a:gridCol w="4496760"/>
                <a:gridCol w="339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bility to work autonomous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blem sol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Basic general technical knowledge of the profession of your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Capacity to lea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5:06:20Z</dcterms:created>
  <dc:creator>Paul Kelly</dc:creator>
  <dc:description/>
  <dc:language>en-US</dc:language>
  <cp:lastModifiedBy>Tony Ward</cp:lastModifiedBy>
  <dcterms:modified xsi:type="dcterms:W3CDTF">2008-06-29T12:43:28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36862242</vt:r8>
  </property>
  <property fmtid="{D5CDD505-2E9C-101B-9397-08002B2CF9AE}" pid="3" name="_AuthorEmail">
    <vt:lpwstr>pkt3@york.ac.uk</vt:lpwstr>
  </property>
  <property fmtid="{D5CDD505-2E9C-101B-9397-08002B2CF9AE}" pid="4" name="_AuthorEmailDisplayName">
    <vt:lpwstr>Penn Snowden</vt:lpwstr>
  </property>
  <property fmtid="{D5CDD505-2E9C-101B-9397-08002B2CF9AE}" pid="5" name="_EmailSubject">
    <vt:lpwstr/>
  </property>
</Properties>
</file>