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FDC92-4D48-4432-8C4B-C8DFCC3719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31440" y="3930840"/>
            <a:ext cx="8915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BA04E-4902-4FDB-9A42-01397FF4E1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998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440" y="393084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99840" y="393084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6470B-7498-4AED-A652-9768C95636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46080" y="156636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660720" y="156636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31440" y="393084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646080" y="393084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660720" y="393084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3F7D8-1ABB-4DAE-8B0C-C3A400002C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AE4F8-6EBA-4516-93BD-FF62D2C85D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8484E-65E5-4D82-82C2-0327197CD8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50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840" y="1566360"/>
            <a:ext cx="4350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8C73B-9109-4213-BC6D-89E38AB430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E814A-EBC2-46C7-97BF-26F7A70675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911240" y="274680"/>
            <a:ext cx="7493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D17E5-267D-436A-9868-0A5A16EA25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99840" y="1566360"/>
            <a:ext cx="4350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31440" y="393084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DF7D6-1002-4CB7-A306-088FAE1B00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50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98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99840" y="393084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94AC5-8E46-4475-ADFA-6D91FE6471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998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1440" y="3930840"/>
            <a:ext cx="8915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1D54E-2996-4703-8D8B-AE56B2EE92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65240" cy="685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219320"/>
            <a:ext cx="165240" cy="56386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746680" y="6553080"/>
            <a:ext cx="226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llinn: 29-06-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7616880" y="6356520"/>
            <a:ext cx="122400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E96D-8366-42BC-81D5-0C464013EDB0}" type="slidenum">
              <a:rPr b="1" lang="fr-FR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404280" y="6432120"/>
            <a:ext cx="5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C7CA-C74A-4B0D-A648-1C6497C3E964}" type="slidenum">
              <a:rPr b="1" lang="fr-FR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254160" y="274680"/>
          <a:ext cx="1657080" cy="95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4160" y="274680"/>
                    <a:ext cx="16570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" name=""/>
          <p:cNvGraphicFramePr/>
          <p:nvPr/>
        </p:nvGraphicFramePr>
        <p:xfrm>
          <a:off x="9067680" y="6300720"/>
          <a:ext cx="838440" cy="55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067680" y="6300720"/>
                    <a:ext cx="83844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" name=""/>
          <p:cNvGraphicFramePr/>
          <p:nvPr/>
        </p:nvGraphicFramePr>
        <p:xfrm>
          <a:off x="8148600" y="6318360"/>
          <a:ext cx="681120" cy="539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148600" y="6318360"/>
                    <a:ext cx="68112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" name=""/>
          <p:cNvGraphicFramePr/>
          <p:nvPr/>
        </p:nvGraphicFramePr>
        <p:xfrm>
          <a:off x="2505240" y="2060640"/>
          <a:ext cx="4437000" cy="4000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05240" y="2060640"/>
                    <a:ext cx="443700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" name=""/>
          <p:cNvSpPr/>
          <p:nvPr/>
        </p:nvSpPr>
        <p:spPr>
          <a:xfrm>
            <a:off x="415800" y="1413000"/>
            <a:ext cx="9396360" cy="46195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body"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095200" y="274680"/>
            <a:ext cx="722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ction T3.3 of Surveyor: Portal on EIE curric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680" y="1389240"/>
            <a:ext cx="6711840" cy="17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Objective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 Survey on the state of the art on mobility in EIE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bmit our idea to facilitate mobility ex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867800" y="1994040"/>
            <a:ext cx="182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Questionn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3240" y="2857680"/>
            <a:ext cx="69148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 an experiment on our Propositions to facilit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bility in the framework of ERASMUS PROGRAM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05760" y="2341440"/>
            <a:ext cx="51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45360" y="3344760"/>
            <a:ext cx="51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36280" y="3013200"/>
            <a:ext cx="161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Portal on EI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curric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54920" y="2876400"/>
            <a:ext cx="0" cy="89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54920" y="1879560"/>
            <a:ext cx="0" cy="89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6520" y="4430880"/>
            <a:ext cx="9669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ort on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ood practice on mobility and existing International master (questionnaire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b portal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gress result on a Master Mobility Portal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7040" y="401148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Outpu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19080" y="44100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July 200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81200" y="6102360"/>
            <a:ext cx="43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3333cc"/>
                </a:solidFill>
                <a:latin typeface="Comic Sans MS"/>
              </a:rPr>
              <a:t>(…to continue with ELLEIEC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944720" y="431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hases of the 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4960" y="1379520"/>
            <a:ext cx="96411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hase 1 : Design and submission of Questionnaires   …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one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hase 2 : Extracting data from questionnaires        …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n Progress (Jan Ligus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hase 3 : Web portal for the experiment                 …Done… (C. Simon J.C. Burguillo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hase 4 : Experimentation of a Master Network     … In Progres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86640" y="3090960"/>
            <a:ext cx="24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matic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ner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12680" y="4073400"/>
            <a:ext cx="693720" cy="1135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160720" y="3525840"/>
            <a:ext cx="5554440" cy="792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8261280" y="3343320"/>
            <a:ext cx="1079640" cy="1085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06640" y="5257080"/>
            <a:ext cx="41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Master Enerxía e sustentabilidad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23560" y="439272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Master Ener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29720" y="4638600"/>
            <a:ext cx="19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Master Génie Electr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Main page of the web por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95440" y="1249200"/>
            <a:ext cx="8707320" cy="537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-41760" y="1934280"/>
            <a:ext cx="69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hapter 1: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Current Situation of Erasmus mobility program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-29520" y="2513880"/>
            <a:ext cx="893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hapter 2: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Difficulties encountered during the mobility agreement preparation.</a:t>
            </a:r>
            <a:r>
              <a:rPr b="0" lang="e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3960" y="3080520"/>
            <a:ext cx="97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hapter 3: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Results on Mobility Survey: The student and mobility supervisor point of view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26280" y="3708000"/>
            <a:ext cx="840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hapter 4: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Proposed Action in the framework of EIE-Surveyor and ELLEIE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Portal on EIE curric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8640" y="4425120"/>
            <a:ext cx="582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hapter 5: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hort and Long terms expected impact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25720" y="331920"/>
            <a:ext cx="40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Grossary of the repor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5170320"/>
            <a:ext cx="40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Conclusions and Refer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9880" y="1512720"/>
            <a:ext cx="2692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749160" y="1430280"/>
            <a:ext cx="87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resentation of the task in the framework of EIE-Surveyor T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2T13:46:50Z</dcterms:created>
  <dc:creator>INPG</dc:creator>
  <dc:description/>
  <dc:language>en-US</dc:language>
  <cp:lastModifiedBy>perso</cp:lastModifiedBy>
  <cp:lastPrinted>2001-02-27T14:19:08Z</cp:lastPrinted>
  <dcterms:modified xsi:type="dcterms:W3CDTF">2008-06-29T21:21:15Z</dcterms:modified>
  <cp:revision>566</cp:revision>
  <dc:subject/>
  <dc:title>Aucun titre de diapositive</dc:title>
</cp:coreProperties>
</file>