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33B5-A8DE-4295-9486-09786DB17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4E08-FF2A-4507-A8CD-F1F7DDC4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6DED-925B-415D-80F3-1A88F03B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A426-23CE-4C11-8562-7B38C2570D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FF4B-FBAD-4F30-A2DC-EA50DBD7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8DCEC-46F2-46B2-A416-AE0ADB1C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031E-0F38-4E6B-9584-BCC6487C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A457-6313-43F8-8E7B-88D04BD7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2500-458C-4B08-B546-3A4DC58C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1C0D-7326-4D23-A7CD-4BD138DF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85832-D758-409C-8A12-B3DA7840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4CE2-F3C3-4BC1-BD74-D4E21907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663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C3D9-B3A8-4593-9F4B-A0FE2812CA3C}" type="slidenum">
              <a:rPr b="1" lang="en-GB" sz="1200" spc="-1" strike="noStrike">
                <a:solidFill>
                  <a:srgbClr val="006633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3244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599240" y="189000"/>
          <a:ext cx="1544760" cy="13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9240" y="189000"/>
                    <a:ext cx="154476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457200" y="626256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02b00"/>
                </a:solidFill>
                <a:latin typeface="Arial"/>
                <a:ea typeface="Arial"/>
              </a:rPr>
              <a:t>Monitoring Group Work        </a:t>
            </a:r>
            <a:r>
              <a:rPr b="0" i="1" lang="en-US" sz="2000" spc="-1" strike="noStrike">
                <a:solidFill>
                  <a:srgbClr val="002290"/>
                </a:solidFill>
                <a:latin typeface="Arial"/>
              </a:rPr>
              <a:t>Tallinn Jun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30040"/>
            <a:ext cx="7925040" cy="6080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120" y="2971440"/>
            <a:ext cx="6696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290"/>
                </a:solidFill>
                <a:latin typeface="Arial"/>
              </a:rPr>
              <a:t>Monitoring and Evaluation issues</a:t>
            </a:r>
            <a:r>
              <a:rPr b="0" lang="en-US" sz="2800" spc="-1" strike="noStrike">
                <a:solidFill>
                  <a:srgbClr val="00229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290"/>
                </a:solidFill>
                <a:latin typeface="Arial"/>
              </a:rPr>
              <a:t>Tallinn 29</a:t>
            </a:r>
            <a:r>
              <a:rPr b="0" lang="en-US" sz="2800" spc="-1" strike="noStrike" baseline="30000">
                <a:solidFill>
                  <a:srgbClr val="00229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2290"/>
                </a:solidFill>
                <a:latin typeface="Arial"/>
              </a:rPr>
              <a:t> 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33336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2b00"/>
                </a:solidFill>
                <a:latin typeface="Verdana"/>
              </a:rPr>
              <a:t>EIE-Survey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00720" y="404640"/>
          <a:ext cx="2336760" cy="21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404640"/>
                    <a:ext cx="23367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979640" y="4221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0080" y="5181480"/>
            <a:ext cx="6147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290"/>
                </a:solidFill>
                <a:latin typeface="Arial"/>
              </a:rPr>
              <a:t>Hélène FREMONT, </a:t>
            </a:r>
            <a:r>
              <a:rPr b="1" i="1" lang="en-GB" sz="2000" spc="-1" strike="noStrike">
                <a:solidFill>
                  <a:srgbClr val="002290"/>
                </a:solidFill>
                <a:latin typeface="Arial"/>
              </a:rPr>
              <a:t>Bordeaux1 University (F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290"/>
                </a:solidFill>
                <a:latin typeface="Arial"/>
              </a:rPr>
              <a:t>Karl Gudmundsson, </a:t>
            </a:r>
            <a:r>
              <a:rPr b="1" i="1" lang="en-GB" sz="2000" spc="-1" strike="noStrike">
                <a:solidFill>
                  <a:srgbClr val="002290"/>
                </a:solidFill>
                <a:latin typeface="Arial"/>
              </a:rPr>
              <a:t>University of Iceland (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e02b00"/>
                </a:solidFill>
                <a:latin typeface="Arial"/>
                <a:ea typeface="Arial"/>
              </a:rPr>
              <a:t>Recommendations from the M</a:t>
            </a:r>
            <a:r>
              <a:rPr b="1" lang="en-US" sz="3000" spc="-1" strike="noStrike">
                <a:solidFill>
                  <a:srgbClr val="e02b00"/>
                </a:solidFill>
                <a:latin typeface="Arial"/>
                <a:ea typeface="Arial"/>
              </a:rPr>
              <a:t>onitoring Group</a:t>
            </a: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2290"/>
                </a:solidFill>
                <a:latin typeface="Arial"/>
              </a:rPr>
              <a:t>(Grenoble March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600200"/>
            <a:ext cx="86868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agmatic Strategy for the next last month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nd specific e-mails to partners in order to get answ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sk’s managers must be even more ac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lve the safety problems of the questionnaire web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pdate the websit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monitoring group/dissemination tas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erything seems to have correctly evol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33cc"/>
                </a:solidFill>
                <a:latin typeface="Arial"/>
              </a:rPr>
              <a:t>Monitors and managers should organise the external monito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46483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39A82-7782-4CE3-B506-9F8296DDED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6640" y="304920"/>
            <a:ext cx="6964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External monitoring organis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2640" y="990720"/>
            <a:ext cx="34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i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63188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aluation of the organisation / life of the whol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 evolu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aluation task by task : initial purposes / final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048120"/>
            <a:ext cx="89154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wo emeritus professors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acques CITERNE : Prof. at Rennes University  (Electronics and telecommun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n-GB" sz="2400" spc="-1" strike="noStrike">
                <a:solidFill>
                  <a:srgbClr val="0033cc"/>
                </a:solidFill>
                <a:latin typeface="Tahoma"/>
              </a:rPr>
              <a:t>Outcomes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ves DANTO : Prof. at Bordeaux University (Reliability of microelectronics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n-GB" sz="2400" spc="-1" strike="noStrike">
                <a:solidFill>
                  <a:srgbClr val="0033cc"/>
                </a:solidFill>
                <a:latin typeface="Tahoma"/>
              </a:rPr>
              <a:t>Project’s organisation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50864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55627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F61B-7C4B-4343-8A9A-970AAFB3D8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457200"/>
            <a:ext cx="5929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Monitoring Group Work</a:t>
            </a:r>
            <a:br>
              <a:rPr sz="3400"/>
            </a:br>
            <a:r>
              <a:rPr b="0" i="1" lang="en-US" sz="2000" spc="-1" strike="noStrike">
                <a:solidFill>
                  <a:srgbClr val="002290"/>
                </a:solidFill>
                <a:latin typeface="Arial"/>
              </a:rPr>
              <a:t>Tallinn, Jun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6560" y="1600200"/>
            <a:ext cx="734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cilities were very go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943360" y="3124080"/>
            <a:ext cx="3000240" cy="2025720"/>
            <a:chOff x="2943360" y="3124080"/>
            <a:chExt cx="3000240" cy="20257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rcRect l="0" t="0" r="0" b="33387"/>
            <a:stretch/>
          </p:blipFill>
          <p:spPr>
            <a:xfrm>
              <a:off x="3429000" y="3352680"/>
              <a:ext cx="212400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2943360" y="3124080"/>
              <a:ext cx="3000240" cy="466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ccff"/>
                    </a:solidFill>
                    <a:miter/>
                  </a:ln>
                  <a:solidFill>
                    <a:srgbClr val="0033cc"/>
                  </a:solidFill>
                  <a:latin typeface="Arial"/>
                </a:rPr>
                <a:t>Thank You, Gert</a:t>
              </a:r>
              <a:endParaRPr b="0" lang="en-US" sz="32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33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F7047-F9F1-4AE0-BADE-7DC3506C14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1:21:09Z</dcterms:created>
  <dc:creator>Victor de Kosinsky</dc:creator>
  <dc:description/>
  <dc:language>en-US</dc:language>
  <cp:lastModifiedBy>Frémont</cp:lastModifiedBy>
  <dcterms:modified xsi:type="dcterms:W3CDTF">2008-06-29T13:11:46Z</dcterms:modified>
  <cp:revision>142</cp:revision>
  <dc:subject>Evaluation Dec 2006</dc:subject>
  <dc:title>EIE-Surveyor</dc:title>
</cp:coreProperties>
</file>